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A9FC2-0E71-40C7-A940-5C82D971056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EB31E-C9B7-4CF0-B959-F599C7964C4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BF17D-C846-4C46-ABBF-C825AADEA0C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EFB681-46D4-4A84-A9F2-F1D158CCC23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spaço Reservado para Número de Slid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C78BFA-E373-4EC9-98FB-36339ACCEFE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D9F4A-A96C-4C6F-AAAA-5135D2C117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1F2F9-3C95-4722-A81E-010ABAAA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48BFE-D390-40BC-831E-6AADC919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DE027-A22D-4DB5-A1AC-0F7EDCEB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AD48B-A06C-486E-BB91-B786F085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E97A0-ED88-470B-9D7A-8F7CF3AE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5E02F-3E42-4D2A-9E05-6D6E0B44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11D6E-5C19-4ED8-A882-B16E26DB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57F6E-2A8C-486E-BA2F-8B72C596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8E07C-59C6-47BD-B0CA-10DA9177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7AEF3-8514-409A-B9D8-DABE7500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9DF2D-E65D-4645-8124-4BF3239ADE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6" descr="skyline_direitosp-02.png"/>
          <p:cNvPicPr/>
          <p:nvPr/>
        </p:nvPicPr>
        <p:blipFill>
          <a:blip r:embed="rId2"/>
          <a:stretch/>
        </p:blipFill>
        <p:spPr>
          <a:xfrm>
            <a:off x="0" y="5049720"/>
            <a:ext cx="9153360" cy="22910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7"/>
          <p:cNvSpPr/>
          <p:nvPr/>
        </p:nvSpPr>
        <p:spPr>
          <a:xfrm>
            <a:off x="457200" y="6523200"/>
            <a:ext cx="6216480" cy="272880"/>
          </a:xfrm>
          <a:prstGeom prst="rect">
            <a:avLst/>
          </a:prstGeom>
          <a:solidFill>
            <a:srgbClr val="0a26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678720" y="6523200"/>
            <a:ext cx="246996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9" descr="logo_direitosp-simples.png"/>
          <p:cNvPicPr/>
          <p:nvPr/>
        </p:nvPicPr>
        <p:blipFill>
          <a:blip r:embed="rId3"/>
          <a:stretch/>
        </p:blipFill>
        <p:spPr>
          <a:xfrm>
            <a:off x="6567480" y="6238800"/>
            <a:ext cx="2440080" cy="862200"/>
          </a:xfrm>
          <a:prstGeom prst="rect">
            <a:avLst/>
          </a:prstGeom>
          <a:ln w="0">
            <a:noFill/>
          </a:ln>
        </p:spPr>
      </p:pic>
      <p:sp>
        <p:nvSpPr>
          <p:cNvPr id="5" name="TextBox 20"/>
          <p:cNvSpPr/>
          <p:nvPr/>
        </p:nvSpPr>
        <p:spPr>
          <a:xfrm>
            <a:off x="457200" y="6523200"/>
            <a:ext cx="533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cola de Direito de São Paulo da Fundação Getulio Var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6" descr="skyline_direitosp-02.png"/>
          <p:cNvPicPr/>
          <p:nvPr/>
        </p:nvPicPr>
        <p:blipFill>
          <a:blip r:embed="rId2"/>
          <a:stretch/>
        </p:blipFill>
        <p:spPr>
          <a:xfrm>
            <a:off x="0" y="5049720"/>
            <a:ext cx="9153360" cy="22910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7"/>
          <p:cNvSpPr/>
          <p:nvPr/>
        </p:nvSpPr>
        <p:spPr>
          <a:xfrm>
            <a:off x="457200" y="6523200"/>
            <a:ext cx="6216480" cy="272880"/>
          </a:xfrm>
          <a:prstGeom prst="rect">
            <a:avLst/>
          </a:prstGeom>
          <a:solidFill>
            <a:srgbClr val="0a26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8"/>
          <p:cNvSpPr/>
          <p:nvPr/>
        </p:nvSpPr>
        <p:spPr>
          <a:xfrm>
            <a:off x="6678720" y="6523200"/>
            <a:ext cx="246996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logo_direitosp-simples.png"/>
          <p:cNvPicPr/>
          <p:nvPr/>
        </p:nvPicPr>
        <p:blipFill>
          <a:blip r:embed="rId3"/>
          <a:stretch/>
        </p:blipFill>
        <p:spPr>
          <a:xfrm>
            <a:off x="6567480" y="6238800"/>
            <a:ext cx="2440080" cy="8622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0"/>
          <p:cNvSpPr/>
          <p:nvPr/>
        </p:nvSpPr>
        <p:spPr>
          <a:xfrm>
            <a:off x="457200" y="6523200"/>
            <a:ext cx="533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cola de Direito de São Paulo da Fundação Getulio Var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F4A1D-6315-4735-BAFC-0AC80EAEC0C0}" type="datetime">
              <a:rPr b="0" lang="pt-BR" sz="18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15C4D-99F4-44E9-B563-D90D06D5BEE8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mailto:aline.souza@fgv.br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CaixaDeTexto 5"/>
          <p:cNvSpPr/>
          <p:nvPr/>
        </p:nvSpPr>
        <p:spPr>
          <a:xfrm>
            <a:off x="312840" y="903240"/>
            <a:ext cx="861048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404040"/>
                </a:solidFill>
                <a:latin typeface="Calibri"/>
              </a:rPr>
              <a:t>5º Fórum do Terceiro Seto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Arial"/>
              </a:rPr>
              <a:t>Marco Regulatório das Organizações da Sociedade Civil: Lei 13.019/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7f7f7f"/>
                </a:solidFill>
                <a:latin typeface="Calibri"/>
              </a:rPr>
              <a:t>Aline G. de Sou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Calibri"/>
              </a:rPr>
              <a:t>São Paulo – 24.08.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30560" y="12996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Arial"/>
              </a:rPr>
              <a:t>Relações Contratuais </a:t>
            </a:r>
            <a:br>
              <a:rPr sz="3000"/>
            </a:br>
            <a:r>
              <a:rPr b="1" lang="pt-BR" sz="3000" spc="-1" strike="noStrike">
                <a:solidFill>
                  <a:srgbClr val="7f7f7f"/>
                </a:solidFill>
                <a:latin typeface="Arial"/>
              </a:rPr>
              <a:t>com Poder Públ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tângulo 3"/>
          <p:cNvSpPr/>
          <p:nvPr/>
        </p:nvSpPr>
        <p:spPr>
          <a:xfrm>
            <a:off x="563400" y="1670040"/>
            <a:ext cx="8234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ei 8.666/93: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ontratos Administrativ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rt.116 da Lei 8.666/93: Convên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ei 13.019/2014 (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MROSC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Termo de Fomento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-iniciativa da OSC;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Termo de Colaboraçã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-iniciativa da Administração Pública;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Acordo de Cooperação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- sem repasse de recursos financeiros.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PROÍBE CONVÊNIO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existem: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Termo de Parceria; Contrato de Gestão; Termos de Compromisso Cultural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6"/>
          <p:cNvSpPr/>
          <p:nvPr/>
        </p:nvSpPr>
        <p:spPr>
          <a:xfrm>
            <a:off x="0" y="2276640"/>
            <a:ext cx="9144000" cy="13741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2. Diagnóstico e histórico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de elaboração da lei 13.019/14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tângulo 1"/>
          <p:cNvSpPr/>
          <p:nvPr/>
        </p:nvSpPr>
        <p:spPr>
          <a:xfrm>
            <a:off x="71280" y="34920"/>
            <a:ext cx="72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</a:rPr>
              <a:t>:. Marco Regulatório das Organizações da Sociedade Civil: Lei 13.019/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ta para baixo 20"/>
          <p:cNvSpPr/>
          <p:nvPr/>
        </p:nvSpPr>
        <p:spPr>
          <a:xfrm>
            <a:off x="2058840" y="3381480"/>
            <a:ext cx="422280" cy="62388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eta para baixo 20"/>
          <p:cNvSpPr/>
          <p:nvPr/>
        </p:nvSpPr>
        <p:spPr>
          <a:xfrm>
            <a:off x="6307200" y="3397320"/>
            <a:ext cx="422280" cy="62388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aixaDeTexto 6"/>
          <p:cNvSpPr/>
          <p:nvPr/>
        </p:nvSpPr>
        <p:spPr>
          <a:xfrm>
            <a:off x="108000" y="-27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Diagnóstico das relações de parce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ixaDeTexto 19"/>
          <p:cNvSpPr/>
          <p:nvPr/>
        </p:nvSpPr>
        <p:spPr>
          <a:xfrm>
            <a:off x="539640" y="1125360"/>
            <a:ext cx="3902040" cy="22582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  <a:ea typeface="바탕"/>
              </a:rPr>
              <a:t>Insegurança jurí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Ausência de lei específ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Mudanças constantes nas L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Interpretações distinta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Analogias indevidas com entes feder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Estoque de prestação de cont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aixaDeTexto 19"/>
          <p:cNvSpPr/>
          <p:nvPr/>
        </p:nvSpPr>
        <p:spPr>
          <a:xfrm>
            <a:off x="966960" y="4149720"/>
            <a:ext cx="2952720" cy="109944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alibri"/>
                <a:ea typeface="바탕"/>
              </a:rPr>
              <a:t>Importância de desenvolver </a:t>
            </a:r>
            <a:r>
              <a:rPr b="1" lang="pt-BR" sz="2200" spc="-1" strike="noStrike">
                <a:solidFill>
                  <a:srgbClr val="404040"/>
                </a:solidFill>
                <a:latin typeface="Calibri"/>
                <a:ea typeface="바탕"/>
              </a:rPr>
              <a:t>agenda norm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ixaDeTexto 19"/>
          <p:cNvSpPr/>
          <p:nvPr/>
        </p:nvSpPr>
        <p:spPr>
          <a:xfrm>
            <a:off x="4567320" y="1106640"/>
            <a:ext cx="3978360" cy="25174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  <a:ea typeface="바탕"/>
              </a:rPr>
              <a:t>Insegurança instit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Ausência de dados sistematiz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Pouca capacitaçã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Planejamento insuficient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Pouca ênfase no controle de result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Dificuldade de adaptação às normas e ao sistema (Siconv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aixaDeTexto 19"/>
          <p:cNvSpPr/>
          <p:nvPr/>
        </p:nvSpPr>
        <p:spPr>
          <a:xfrm>
            <a:off x="5060880" y="4149720"/>
            <a:ext cx="2943360" cy="109944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alibri"/>
                <a:ea typeface="바탕"/>
              </a:rPr>
              <a:t>Importância de desenvolver </a:t>
            </a:r>
            <a:r>
              <a:rPr b="1" lang="pt-BR" sz="2200" spc="-1" strike="noStrike">
                <a:solidFill>
                  <a:srgbClr val="404040"/>
                </a:solidFill>
                <a:latin typeface="Calibri"/>
                <a:ea typeface="바탕"/>
              </a:rPr>
              <a:t>agenda de conheci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nector reto 13"/>
          <p:cNvSpPr/>
          <p:nvPr/>
        </p:nvSpPr>
        <p:spPr>
          <a:xfrm>
            <a:off x="-3492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aixaDeTexto 5"/>
          <p:cNvSpPr/>
          <p:nvPr/>
        </p:nvSpPr>
        <p:spPr>
          <a:xfrm>
            <a:off x="971640" y="5301360"/>
            <a:ext cx="2952720" cy="3682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  <a:ea typeface="Calibri"/>
              </a:rPr>
              <a:t>Contratualiz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aixaDeTexto 6"/>
          <p:cNvSpPr/>
          <p:nvPr/>
        </p:nvSpPr>
        <p:spPr>
          <a:xfrm>
            <a:off x="971640" y="5661720"/>
            <a:ext cx="2952720" cy="3682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  <a:ea typeface="Calibri"/>
              </a:rPr>
              <a:t>Sustenta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aixaDeTexto 7"/>
          <p:cNvSpPr/>
          <p:nvPr/>
        </p:nvSpPr>
        <p:spPr>
          <a:xfrm>
            <a:off x="971640" y="6022080"/>
            <a:ext cx="2952720" cy="368280"/>
          </a:xfrm>
          <a:prstGeom prst="rect">
            <a:avLst/>
          </a:prstGeom>
          <a:solidFill>
            <a:srgbClr val="c89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Certif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aixaDeTexto 8"/>
          <p:cNvSpPr/>
          <p:nvPr/>
        </p:nvSpPr>
        <p:spPr>
          <a:xfrm>
            <a:off x="5076720" y="5301360"/>
            <a:ext cx="2914920" cy="3682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  <a:ea typeface="Calibri"/>
              </a:rPr>
              <a:t>Capacitação e Form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ixaDeTexto 9"/>
          <p:cNvSpPr/>
          <p:nvPr/>
        </p:nvSpPr>
        <p:spPr>
          <a:xfrm>
            <a:off x="5076720" y="5661720"/>
            <a:ext cx="2928960" cy="3682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  <a:ea typeface="Calibri"/>
              </a:rPr>
              <a:t>Comunicação e Dissemin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aixaDeTexto 10"/>
          <p:cNvSpPr/>
          <p:nvPr/>
        </p:nvSpPr>
        <p:spPr>
          <a:xfrm>
            <a:off x="5076720" y="6021360"/>
            <a:ext cx="2951280" cy="368280"/>
          </a:xfrm>
          <a:prstGeom prst="rect">
            <a:avLst/>
          </a:prstGeom>
          <a:solidFill>
            <a:srgbClr val="c89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Estudos e Pesqui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908000" y="1055520"/>
          <a:ext cx="7128000" cy="4573800"/>
        </p:xfrm>
        <a:graphic>
          <a:graphicData uri="http://schemas.openxmlformats.org/drawingml/2006/table">
            <a:tbl>
              <a:tblPr/>
              <a:tblGrid>
                <a:gridCol w="562680"/>
                <a:gridCol w="107280"/>
                <a:gridCol w="529560"/>
                <a:gridCol w="630000"/>
                <a:gridCol w="546840"/>
                <a:gridCol w="63000"/>
                <a:gridCol w="83520"/>
                <a:gridCol w="460440"/>
                <a:gridCol w="107280"/>
                <a:gridCol w="549720"/>
                <a:gridCol w="63360"/>
                <a:gridCol w="556200"/>
                <a:gridCol w="61560"/>
                <a:gridCol w="562320"/>
                <a:gridCol w="561240"/>
                <a:gridCol w="562320"/>
                <a:gridCol w="625320"/>
                <a:gridCol w="495360"/>
              </a:tblGrid>
              <a:tr h="274680"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O 2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520">
                <a:tc gridSpan="15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 previs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ogia imprecisa com LRF :“no que couber”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b9cd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55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8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4280">
                <a:tc gridSpan="3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 previs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5640" rIns="35640" tIns="0" bIns="0"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ultativa (OSCs em gera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íbe  exigência para as de Ass. Social .e Saúde c/ registro CNA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35640" rIns="35640" tIns="0" bIns="0"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rigatória (OSC em gera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íbe pra Assistência Social (AS) e saúde (S) c/ registro CN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íbe exigência p/ Ass. e Educação c/CEBA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558ed5"/>
                    </a:solidFill>
                  </a:tcPr>
                </a:tc>
                <a:tc gridSpan="3">
                  <a:txBody>
                    <a:bodyPr lIns="35640" rIns="35640" tIns="0" bIns="0"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ultativa (OSC em gera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ibição de exigência para as de AS; E; S c/ CEB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8eb4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 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400">
                <a:tc gridSpan="9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 previs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enas entreg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; não rejeição e até  2 pendênc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3760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 não rejei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31859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55, 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ureza continua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ureza continuada +</a:t>
                      </a:r>
                      <a:r>
                        <a:rPr b="0" lang="pt-BR" sz="9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AS;S;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3cddd"/>
                    </a:solidFill>
                  </a:tcPr>
                </a:tc>
                <a:tc gridSpan="11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 2003 +  a</a:t>
                      </a:r>
                      <a:r>
                        <a:rPr b="0" lang="pt-BR" sz="9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ssistência social (AS)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saúde( S); educação (E) e cultu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 2010 + atendimento direto ao público e CEBA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 gridSpan="3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,E, Meio Amb, Contr. Gestao e C.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cips e pesqui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31859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todos Consórci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5b3d7"/>
                    </a:solidFill>
                  </a:tcPr>
                </a:tc>
                <a:tc gridSpan="4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espor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de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coleta , vulner. e criança e idos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AS e proteção (AS/S – CEBA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extrativismo, manejo floresta (CEBAS – AS, E e 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 gridSpan="5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 previs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ibi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31859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ibição com exceçõ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 55,  § 3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 gridSpan="8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 previs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rigação de publicização pela entid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 55,I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 gridSpan="10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 previs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áusula obrigatória para que o Poder Público retome o bem  no caso de desvio da  finalid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31859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 55, V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an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5b3d7"/>
                    </a:solidFill>
                  </a:tcPr>
                </a:tc>
                <a:tc gridSpan="16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an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3c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55, V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 gridSpan="15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 previs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ovação obrigatór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1859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 55, X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" name="Retângulo 8"/>
          <p:cNvSpPr/>
          <p:nvPr/>
        </p:nvSpPr>
        <p:spPr>
          <a:xfrm>
            <a:off x="187200" y="2711520"/>
            <a:ext cx="164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Prestação de cont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ângulo 12"/>
          <p:cNvSpPr/>
          <p:nvPr/>
        </p:nvSpPr>
        <p:spPr>
          <a:xfrm>
            <a:off x="444600" y="2031840"/>
            <a:ext cx="1355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Contraparti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1"/>
          <p:cNvSpPr/>
          <p:nvPr/>
        </p:nvSpPr>
        <p:spPr>
          <a:xfrm>
            <a:off x="444600" y="1357200"/>
            <a:ext cx="1441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Despes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equipe de trabalh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tângulo 8"/>
          <p:cNvSpPr/>
          <p:nvPr/>
        </p:nvSpPr>
        <p:spPr>
          <a:xfrm>
            <a:off x="-396720" y="3068640"/>
            <a:ext cx="2230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Subvenções sociais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entidades destinatári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tângulo 8"/>
          <p:cNvSpPr/>
          <p:nvPr/>
        </p:nvSpPr>
        <p:spPr>
          <a:xfrm>
            <a:off x="185760" y="3645000"/>
            <a:ext cx="164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Despesa de capital e auxíl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tângulo 8"/>
          <p:cNvSpPr/>
          <p:nvPr/>
        </p:nvSpPr>
        <p:spPr>
          <a:xfrm>
            <a:off x="-396720" y="4149720"/>
            <a:ext cx="2230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Agentes políticos e par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tângulo 8"/>
          <p:cNvSpPr/>
          <p:nvPr/>
        </p:nvSpPr>
        <p:spPr>
          <a:xfrm>
            <a:off x="-396720" y="4454640"/>
            <a:ext cx="2230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Publicidade do instrumen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tângulo 8"/>
          <p:cNvSpPr/>
          <p:nvPr/>
        </p:nvSpPr>
        <p:spPr>
          <a:xfrm>
            <a:off x="-252360" y="4741920"/>
            <a:ext cx="208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Reversão patrimon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tângulo 8"/>
          <p:cNvSpPr/>
          <p:nvPr/>
        </p:nvSpPr>
        <p:spPr>
          <a:xfrm>
            <a:off x="-252360" y="5016600"/>
            <a:ext cx="208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Tempo de existênc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tângulo 8"/>
          <p:cNvSpPr/>
          <p:nvPr/>
        </p:nvSpPr>
        <p:spPr>
          <a:xfrm>
            <a:off x="-252360" y="5229360"/>
            <a:ext cx="208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Capacidade gerencial, operacional e técn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aixaDeTexto 16"/>
          <p:cNvSpPr/>
          <p:nvPr/>
        </p:nvSpPr>
        <p:spPr>
          <a:xfrm>
            <a:off x="4317840" y="549720"/>
            <a:ext cx="47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8064a2"/>
                </a:solidFill>
                <a:latin typeface="Calibri"/>
              </a:rPr>
              <a:t>Mudanças constantes e sobrecarga da L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onector reto 13"/>
          <p:cNvSpPr/>
          <p:nvPr/>
        </p:nvSpPr>
        <p:spPr>
          <a:xfrm>
            <a:off x="-3492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aixaDeTexto 6"/>
          <p:cNvSpPr/>
          <p:nvPr/>
        </p:nvSpPr>
        <p:spPr>
          <a:xfrm>
            <a:off x="108000" y="-27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Diagnóstico das relações de parce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Gráfico 3" descr=""/>
          <p:cNvPicPr/>
          <p:nvPr/>
        </p:nvPicPr>
        <p:blipFill>
          <a:blip r:embed="rId1"/>
          <a:stretch/>
        </p:blipFill>
        <p:spPr>
          <a:xfrm>
            <a:off x="176040" y="1279440"/>
            <a:ext cx="8791920" cy="1658880"/>
          </a:xfrm>
          <a:prstGeom prst="rect">
            <a:avLst/>
          </a:prstGeom>
          <a:ln w="0">
            <a:noFill/>
          </a:ln>
        </p:spPr>
      </p:pic>
      <p:sp>
        <p:nvSpPr>
          <p:cNvPr id="166" name="CaixaDeTexto 1"/>
          <p:cNvSpPr/>
          <p:nvPr/>
        </p:nvSpPr>
        <p:spPr>
          <a:xfrm>
            <a:off x="324000" y="1125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Equipe próp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Gráfico 5" descr=""/>
          <p:cNvPicPr/>
          <p:nvPr/>
        </p:nvPicPr>
        <p:blipFill>
          <a:blip r:embed="rId2"/>
          <a:stretch/>
        </p:blipFill>
        <p:spPr>
          <a:xfrm>
            <a:off x="109440" y="2865600"/>
            <a:ext cx="8521920" cy="1650960"/>
          </a:xfrm>
          <a:prstGeom prst="rect">
            <a:avLst/>
          </a:prstGeom>
          <a:ln w="0">
            <a:noFill/>
          </a:ln>
        </p:spPr>
      </p:pic>
      <p:sp>
        <p:nvSpPr>
          <p:cNvPr id="168" name="CaixaDeTexto 1"/>
          <p:cNvSpPr/>
          <p:nvPr/>
        </p:nvSpPr>
        <p:spPr>
          <a:xfrm>
            <a:off x="396720" y="2708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Dirig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Gráfico 7" descr=""/>
          <p:cNvPicPr/>
          <p:nvPr/>
        </p:nvPicPr>
        <p:blipFill>
          <a:blip r:embed="rId3"/>
          <a:stretch/>
        </p:blipFill>
        <p:spPr>
          <a:xfrm>
            <a:off x="176040" y="4462560"/>
            <a:ext cx="8643960" cy="1584360"/>
          </a:xfrm>
          <a:prstGeom prst="rect">
            <a:avLst/>
          </a:prstGeom>
          <a:ln w="0">
            <a:noFill/>
          </a:ln>
        </p:spPr>
      </p:pic>
      <p:sp>
        <p:nvSpPr>
          <p:cNvPr id="170" name="CaixaDeTexto 8"/>
          <p:cNvSpPr/>
          <p:nvPr/>
        </p:nvSpPr>
        <p:spPr>
          <a:xfrm>
            <a:off x="466560" y="435600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atação de Terc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tângulo 4"/>
          <p:cNvSpPr/>
          <p:nvPr/>
        </p:nvSpPr>
        <p:spPr>
          <a:xfrm>
            <a:off x="108000" y="550800"/>
            <a:ext cx="8928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8064a2"/>
                </a:solidFill>
                <a:latin typeface="Calibri"/>
              </a:rPr>
              <a:t>Remuneração equipe de trabalho - Tratamento nos Ministé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Calibri"/>
              </a:rPr>
              <a:t>(Atos normativos; Editais; Orientaçõ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7380360" y="620640"/>
            <a:ext cx="1249200" cy="717840"/>
            <a:chOff x="7380360" y="620640"/>
            <a:chExt cx="1249200" cy="717840"/>
          </a:xfrm>
        </p:grpSpPr>
        <p:sp>
          <p:nvSpPr>
            <p:cNvPr id="173" name="Retângulo 10"/>
            <p:cNvSpPr/>
            <p:nvPr/>
          </p:nvSpPr>
          <p:spPr>
            <a:xfrm>
              <a:off x="7380360" y="691920"/>
              <a:ext cx="79200" cy="1443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tângulo 11"/>
            <p:cNvSpPr/>
            <p:nvPr/>
          </p:nvSpPr>
          <p:spPr>
            <a:xfrm>
              <a:off x="7380360" y="907920"/>
              <a:ext cx="79200" cy="144360"/>
            </a:xfrm>
            <a:prstGeom prst="rect">
              <a:avLst/>
            </a:prstGeom>
            <a:solidFill>
              <a:srgbClr val="ffc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tângulo 12"/>
            <p:cNvSpPr/>
            <p:nvPr/>
          </p:nvSpPr>
          <p:spPr>
            <a:xfrm>
              <a:off x="7380360" y="1123920"/>
              <a:ext cx="79200" cy="144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CaixaDeTexto 1"/>
            <p:cNvSpPr/>
            <p:nvPr/>
          </p:nvSpPr>
          <p:spPr>
            <a:xfrm>
              <a:off x="7460640" y="620640"/>
              <a:ext cx="116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roí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CaixaDeTexto 1"/>
            <p:cNvSpPr/>
            <p:nvPr/>
          </p:nvSpPr>
          <p:spPr>
            <a:xfrm>
              <a:off x="7460640" y="846000"/>
              <a:ext cx="116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miss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CaixaDeTexto 1"/>
            <p:cNvSpPr/>
            <p:nvPr/>
          </p:nvSpPr>
          <p:spPr>
            <a:xfrm>
              <a:off x="7460280" y="1062000"/>
              <a:ext cx="116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Box 1"/>
          <p:cNvSpPr/>
          <p:nvPr/>
        </p:nvSpPr>
        <p:spPr>
          <a:xfrm>
            <a:off x="730080" y="72547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aixaDeTexto 6"/>
          <p:cNvSpPr/>
          <p:nvPr/>
        </p:nvSpPr>
        <p:spPr>
          <a:xfrm>
            <a:off x="108000" y="-27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Diagnóstico das relações de parce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onector reto 13"/>
          <p:cNvSpPr/>
          <p:nvPr/>
        </p:nvSpPr>
        <p:spPr>
          <a:xfrm>
            <a:off x="-3492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Diagrama 12" descr=""/>
          <p:cNvPicPr/>
          <p:nvPr/>
        </p:nvPicPr>
        <p:blipFill>
          <a:blip r:embed="rId1"/>
          <a:stretch/>
        </p:blipFill>
        <p:spPr>
          <a:xfrm>
            <a:off x="-244440" y="1487520"/>
            <a:ext cx="7791480" cy="49435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1"/>
          <p:cNvSpPr/>
          <p:nvPr/>
        </p:nvSpPr>
        <p:spPr>
          <a:xfrm>
            <a:off x="6300720" y="3147120"/>
            <a:ext cx="273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ortan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elaboração da lei é reflexo de u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cesso dialétic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resultado de todas essas premiss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onector reto 13"/>
          <p:cNvSpPr/>
          <p:nvPr/>
        </p:nvSpPr>
        <p:spPr>
          <a:xfrm>
            <a:off x="15840" y="47628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aixaDeTexto 11"/>
          <p:cNvSpPr/>
          <p:nvPr/>
        </p:nvSpPr>
        <p:spPr>
          <a:xfrm>
            <a:off x="54000" y="-2700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8064a2"/>
                </a:solidFill>
                <a:latin typeface="Calibri"/>
              </a:rPr>
              <a:t>Por que um novo Marco Regulatóri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50920" y="69552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rimorar  as relações de parceria entre organizações da sociedade civil e poder público, garantindo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3635280" y="2190600"/>
            <a:ext cx="504036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o ponto de vista da forma e da natureza jurídica das ONGs, o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marco legal existent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 Brasil se caracteriza pela sua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insuficiência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, pela sua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imprecisão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e talvez mesmo pela sua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inadequação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, daí porque (…) podemos esperar desta CPI (sic) um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rabalho propositivo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m resultados concretos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Ministro-chefe da Controladoria-Geral da União, Jorge Hage,Relatório final da CPI das ONGs, p. 71, Brasília, out. de 2010.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539640" y="2509920"/>
            <a:ext cx="251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64a2"/>
                </a:solidFill>
                <a:latin typeface="Calibri"/>
                <a:ea typeface="바탕"/>
              </a:rPr>
              <a:t>A segunda CPI das ONGs, realizada em 2007, concluiu, pela </a:t>
            </a:r>
            <a:r>
              <a:rPr b="1" lang="en-US" sz="2000" spc="-1" strike="noStrike">
                <a:solidFill>
                  <a:srgbClr val="8064a2"/>
                </a:solidFill>
                <a:latin typeface="Calibri"/>
                <a:ea typeface="바탕"/>
              </a:rPr>
              <a:t>necessidade de uma nova legisla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776680" y="981000"/>
            <a:ext cx="95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ítulo 1"/>
          <p:cNvSpPr/>
          <p:nvPr/>
        </p:nvSpPr>
        <p:spPr>
          <a:xfrm>
            <a:off x="3924360" y="1060560"/>
            <a:ext cx="4751280" cy="4744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Conclusão da 2ª. CPI das O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13"/>
          <p:cNvSpPr/>
          <p:nvPr/>
        </p:nvSpPr>
        <p:spPr>
          <a:xfrm>
            <a:off x="3419640" y="2049480"/>
            <a:ext cx="0" cy="310824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onector reto 13"/>
          <p:cNvSpPr/>
          <p:nvPr/>
        </p:nvSpPr>
        <p:spPr>
          <a:xfrm>
            <a:off x="-108000" y="69228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ixaDeTexto 6"/>
          <p:cNvSpPr/>
          <p:nvPr/>
        </p:nvSpPr>
        <p:spPr>
          <a:xfrm>
            <a:off x="108000" y="3636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Histórico de elaboração da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CaixaDeTexto 6"/>
          <p:cNvSpPr/>
          <p:nvPr/>
        </p:nvSpPr>
        <p:spPr>
          <a:xfrm>
            <a:off x="108000" y="44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Histórico de elaboração da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onector reto 13"/>
          <p:cNvSpPr/>
          <p:nvPr/>
        </p:nvSpPr>
        <p:spPr>
          <a:xfrm>
            <a:off x="-108000" y="69228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ítulo 1"/>
          <p:cNvSpPr/>
          <p:nvPr/>
        </p:nvSpPr>
        <p:spPr>
          <a:xfrm>
            <a:off x="4284720" y="981000"/>
            <a:ext cx="4390920" cy="4953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Iniciativa da sociedade civ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611280" y="1773360"/>
            <a:ext cx="3744720" cy="353844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Calibri"/>
              </a:rPr>
              <a:t>Plataforma por um Novo Marco Regulatório das Organizações da Sociedade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404040"/>
                </a:solidFill>
                <a:latin typeface="Calibri"/>
              </a:rPr>
              <a:t>Articulação de um grupo de organizações e movimentos da sociedade civil, encaminhou documento aos candidatos à Presidência da República contendo reivindicações para o aprimoramento do ambiente institucional vigente sobre as relações de parceria entre o Estado e as OSCs</a:t>
            </a:r>
            <a:r>
              <a:rPr b="0" lang="pt-BR" sz="22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3640" y="1773360"/>
            <a:ext cx="3600720" cy="35683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404040"/>
                </a:solidFill>
                <a:latin typeface="Calibri"/>
              </a:rPr>
              <a:t>Eleiçõ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404040"/>
                </a:solidFill>
                <a:latin typeface="Calibri"/>
              </a:rPr>
              <a:t>presiden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404040"/>
                </a:solidFill>
                <a:latin typeface="Calibri"/>
              </a:rPr>
              <a:t>A então candidata Dilma Rousseff responde ao grupo de organizações e movimentos, </a:t>
            </a:r>
            <a:r>
              <a:rPr b="1" lang="pt-BR" sz="1800" spc="-1" strike="noStrike">
                <a:solidFill>
                  <a:srgbClr val="404040"/>
                </a:solidFill>
                <a:latin typeface="Calibri"/>
              </a:rPr>
              <a:t>assumindo o compromisso </a:t>
            </a:r>
            <a:r>
              <a:rPr b="0" lang="pt-BR" sz="1800" spc="-1" strike="noStrike">
                <a:solidFill>
                  <a:srgbClr val="404040"/>
                </a:solidFill>
                <a:latin typeface="Calibri"/>
              </a:rPr>
              <a:t>de, caso eleita, criar um grupo de trabalho com o objetivo de elaborar uma proposta de legislação que atenda às demandas levantadas pela Platafor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208680" y="981000"/>
            <a:ext cx="104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2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eta para baixo 20"/>
          <p:cNvSpPr/>
          <p:nvPr/>
        </p:nvSpPr>
        <p:spPr>
          <a:xfrm rot="16200000">
            <a:off x="4507560" y="3132720"/>
            <a:ext cx="35712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tângulo 3"/>
          <p:cNvSpPr/>
          <p:nvPr/>
        </p:nvSpPr>
        <p:spPr>
          <a:xfrm>
            <a:off x="6715080" y="20520"/>
            <a:ext cx="23576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onector reto 13"/>
          <p:cNvSpPr/>
          <p:nvPr/>
        </p:nvSpPr>
        <p:spPr>
          <a:xfrm>
            <a:off x="-108000" y="69228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ítulo 1"/>
          <p:cNvSpPr/>
          <p:nvPr/>
        </p:nvSpPr>
        <p:spPr>
          <a:xfrm>
            <a:off x="4427640" y="981000"/>
            <a:ext cx="4392360" cy="4953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Grupo de Trabal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324000" y="1974960"/>
            <a:ext cx="3887640" cy="265464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rupo de Trabalho Interministerial (GTI)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Instituído pelo Decreto no. 7.568/2011 com a finalidade de 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avaliar, rever e propor aperfeiçoamentos na legislação federal que rege a parceria entre Estado e Organizações da Sociedade Civ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859280" y="1982880"/>
            <a:ext cx="3960720" cy="39646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I Seminário Internacional do MROS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moveu a discussão sobre o arcabouço legal e levantou desafios e propostas sobre o tema. A produção foi reunida em um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com 50 propostas orientadoras para o GTI, divididos nos eix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79646"/>
                </a:solidFill>
                <a:latin typeface="Calibri"/>
              </a:rPr>
              <a:t>CONTRATUALIZ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SUSTENTABILIDADE ECONÔ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CERTIFICAÇ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381120" y="907920"/>
            <a:ext cx="104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eta para baixo 20"/>
          <p:cNvSpPr/>
          <p:nvPr/>
        </p:nvSpPr>
        <p:spPr>
          <a:xfrm rot="16200000">
            <a:off x="4363200" y="3120120"/>
            <a:ext cx="35712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aixaDeTexto 6"/>
          <p:cNvSpPr/>
          <p:nvPr/>
        </p:nvSpPr>
        <p:spPr>
          <a:xfrm>
            <a:off x="108000" y="44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Histórico de elaboração da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468360" y="1735200"/>
          <a:ext cx="8207280" cy="3281400"/>
        </p:xfrm>
        <a:graphic>
          <a:graphicData uri="http://schemas.openxmlformats.org/drawingml/2006/table">
            <a:tbl>
              <a:tblPr/>
              <a:tblGrid>
                <a:gridCol w="4281480"/>
                <a:gridCol w="1984320"/>
                <a:gridCol w="1941480"/>
              </a:tblGrid>
              <a:tr h="298440">
                <a:tc rowSpan="2">
                  <a:txBody>
                    <a:bodyPr lIns="10800" rIns="10800" tIns="0" bIns="0" anchor="ctr">
                      <a:noAutofit/>
                    </a:bodyPr>
                    <a:p>
                      <a:pPr lvl="1"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700" spc="-1" strike="noStrike">
                          <a:solidFill>
                            <a:srgbClr val="404040"/>
                          </a:solidFill>
                          <a:latin typeface="Calibri"/>
                          <a:ea typeface="MS PGothic"/>
                        </a:rPr>
                        <a:t>ÓRGÃOS DO GOVERNO FEDER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2">
                  <a:txBody>
                    <a:bodyPr lIns="10800" rIns="10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ORGANIZAÇÕES DA SOCIEDADE CIVI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itula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uplent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8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.Secretaria-Geral da Presidência da Repúblic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.ABO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8.Instituto Eth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2.Casa Civil da Presidência da Repúbl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2.GIF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9.APEM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8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.Controladoria-Geral da Uni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.CLAI-BRASI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0.Cáritas Brasileir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4.Advocacia-Geral da Uni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4.CEBR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1.Visão Mundi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96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5.Ministério da Justiç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5.Fundação Esquel Brasi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2.INES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6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6.Ministério do Planejamento, Orçamento e Gest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6.UNICAF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3.IS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8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7.Ministério da Fazen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7.CONCRA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4.FENAPA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Conector reto 13"/>
          <p:cNvSpPr/>
          <p:nvPr/>
        </p:nvSpPr>
        <p:spPr>
          <a:xfrm>
            <a:off x="-108000" y="69228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aixaDeTexto 6"/>
          <p:cNvSpPr/>
          <p:nvPr/>
        </p:nvSpPr>
        <p:spPr>
          <a:xfrm>
            <a:off x="108000" y="44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Histórico de elaboração da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ítulo 1"/>
          <p:cNvSpPr/>
          <p:nvPr/>
        </p:nvSpPr>
        <p:spPr>
          <a:xfrm>
            <a:off x="4356000" y="981000"/>
            <a:ext cx="4319640" cy="4953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Composição do Grupo de Trabal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6"/>
          <p:cNvSpPr/>
          <p:nvPr/>
        </p:nvSpPr>
        <p:spPr>
          <a:xfrm>
            <a:off x="0" y="1395360"/>
            <a:ext cx="8604360" cy="52056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. Breve retrato das OSCs e relação com 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0" y="2235240"/>
            <a:ext cx="8604360" cy="5205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. Diagnóstico e  histórico de elaboração da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0" y="5064120"/>
            <a:ext cx="8604360" cy="52056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5. Desafios e oportun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0" y="4116240"/>
            <a:ext cx="8604360" cy="5205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. Como está organizada  a Lei 13.019/2014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tângulo 1"/>
          <p:cNvSpPr/>
          <p:nvPr/>
        </p:nvSpPr>
        <p:spPr>
          <a:xfrm>
            <a:off x="71280" y="34920"/>
            <a:ext cx="72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64a2"/>
                </a:solidFill>
                <a:latin typeface="Calibri"/>
              </a:rPr>
              <a:t>:. Marco Regulatório das Organizações da Sociedade Civil: Lei 13.019/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0" y="3182760"/>
            <a:ext cx="8604360" cy="52056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. Principais mudanças para OSCs e Adm.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Conector reto 13"/>
          <p:cNvSpPr/>
          <p:nvPr/>
        </p:nvSpPr>
        <p:spPr>
          <a:xfrm>
            <a:off x="-108000" y="69228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aixaDeTexto 6"/>
          <p:cNvSpPr/>
          <p:nvPr/>
        </p:nvSpPr>
        <p:spPr>
          <a:xfrm>
            <a:off x="108000" y="44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Histórico de elaboração da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ítulo 1"/>
          <p:cNvSpPr/>
          <p:nvPr/>
        </p:nvSpPr>
        <p:spPr>
          <a:xfrm>
            <a:off x="4284720" y="981000"/>
            <a:ext cx="4390920" cy="4953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Minuta de projeto de 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468360" y="1895400"/>
            <a:ext cx="3456000" cy="34480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s conteúdos elaborados pelo GT foram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discutidos em reuniões bilaterai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m ministérios de atuação finalística (MDS, MEC, Minc, MTE, MSaúde, etc..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o todos, 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mais de 250 gestores público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oram ouvidos e contribuíram com as propo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208680" y="930240"/>
            <a:ext cx="104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eta para baixo 20"/>
          <p:cNvSpPr/>
          <p:nvPr/>
        </p:nvSpPr>
        <p:spPr>
          <a:xfrm rot="16200000">
            <a:off x="3986280" y="3056040"/>
            <a:ext cx="357120" cy="239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7"/>
          <p:cNvSpPr/>
          <p:nvPr/>
        </p:nvSpPr>
        <p:spPr>
          <a:xfrm>
            <a:off x="4643280" y="1916280"/>
            <a:ext cx="3961080" cy="31734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mo resultado foi elaborada um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minuta de projeto de lei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MS PGothic"/>
              </a:rPr>
              <a:t>Orientou o desenvolvimento da agenda na Secretaria-Geral da Presidência da Repúbl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MS PGothic"/>
              </a:rPr>
              <a:t>Subsidiou os projetos de lei em destaque no Congresso N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"/>
          <p:cNvSpPr/>
          <p:nvPr/>
        </p:nvSpPr>
        <p:spPr>
          <a:xfrm>
            <a:off x="6156360" y="2492280"/>
            <a:ext cx="2685960" cy="30805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PL 7.168/20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Relator: </a:t>
            </a: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Décio Lima (PT/SC). Aprovado no Plenário da Câmara dos Deputados em 2 de julho de 2014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Calibri"/>
              </a:rPr>
              <a:t>Lei 13.019/201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aixaDeTexto 6"/>
          <p:cNvSpPr/>
          <p:nvPr/>
        </p:nvSpPr>
        <p:spPr>
          <a:xfrm>
            <a:off x="108000" y="36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Histórico de elaboração da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eta para baixo 20"/>
          <p:cNvSpPr/>
          <p:nvPr/>
        </p:nvSpPr>
        <p:spPr>
          <a:xfrm rot="16200000">
            <a:off x="2746080" y="2788560"/>
            <a:ext cx="187560" cy="23832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http://3.bp.blogspot.com/-mUZgFYFPTPo/UCAlct6pxTI/AAAAAAAAAX4/TR988OXecC8/s1600/logo+camara.jpg"/>
          <p:cNvPicPr/>
          <p:nvPr/>
        </p:nvPicPr>
        <p:blipFill>
          <a:blip r:embed="rId1"/>
          <a:stretch/>
        </p:blipFill>
        <p:spPr>
          <a:xfrm>
            <a:off x="3782880" y="2144880"/>
            <a:ext cx="1230480" cy="34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431640" y="2492280"/>
          <a:ext cx="2124360" cy="2443320"/>
        </p:xfrm>
        <a:graphic>
          <a:graphicData uri="http://schemas.openxmlformats.org/drawingml/2006/table">
            <a:tbl>
              <a:tblPr/>
              <a:tblGrid>
                <a:gridCol w="2124360"/>
              </a:tblGrid>
              <a:tr h="12495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S 649/201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: Sen. Aloysio Nunes (PSDB/SP) – resultado  2ª CPI das ONG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/>
                    </a:solidFill>
                  </a:tcPr>
                </a:tc>
              </a:tr>
              <a:tr h="11937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itutivo: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rigo Rollemberg (PSB/D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27" name="Picture 8" descr="Logo do Senado Federal"/>
          <p:cNvPicPr/>
          <p:nvPr/>
        </p:nvPicPr>
        <p:blipFill>
          <a:blip r:embed="rId2"/>
          <a:stretch/>
        </p:blipFill>
        <p:spPr>
          <a:xfrm>
            <a:off x="826920" y="2151000"/>
            <a:ext cx="1297080" cy="347760"/>
          </a:xfrm>
          <a:prstGeom prst="rect">
            <a:avLst/>
          </a:prstGeom>
          <a:ln w="0">
            <a:noFill/>
          </a:ln>
        </p:spPr>
      </p:pic>
      <p:sp>
        <p:nvSpPr>
          <p:cNvPr id="228" name="Seta para baixo 20"/>
          <p:cNvSpPr/>
          <p:nvPr/>
        </p:nvSpPr>
        <p:spPr>
          <a:xfrm rot="16200000">
            <a:off x="5701320" y="2876760"/>
            <a:ext cx="187560" cy="23976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http://3.bp.blogspot.com/-mUZgFYFPTPo/UCAlct6pxTI/AAAAAAAAAX4/TR988OXecC8/s1600/logo+camara.jpg"/>
          <p:cNvPicPr/>
          <p:nvPr/>
        </p:nvPicPr>
        <p:blipFill>
          <a:blip r:embed="rId3"/>
          <a:stretch/>
        </p:blipFill>
        <p:spPr>
          <a:xfrm>
            <a:off x="7093080" y="2160720"/>
            <a:ext cx="1230120" cy="347400"/>
          </a:xfrm>
          <a:prstGeom prst="rect">
            <a:avLst/>
          </a:prstGeom>
          <a:ln w="0">
            <a:noFill/>
          </a:ln>
        </p:spPr>
      </p:pic>
      <p:sp>
        <p:nvSpPr>
          <p:cNvPr id="230" name="Título 1"/>
          <p:cNvSpPr/>
          <p:nvPr/>
        </p:nvSpPr>
        <p:spPr>
          <a:xfrm>
            <a:off x="4449600" y="803160"/>
            <a:ext cx="4392720" cy="4953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Tramitação no Congresso Na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7"/>
          <p:cNvSpPr/>
          <p:nvPr/>
        </p:nvSpPr>
        <p:spPr>
          <a:xfrm>
            <a:off x="2420280" y="78732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2013/20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132000" y="2492280"/>
          <a:ext cx="2303640" cy="3673440"/>
        </p:xfrm>
        <a:graphic>
          <a:graphicData uri="http://schemas.openxmlformats.org/drawingml/2006/table">
            <a:tbl>
              <a:tblPr/>
              <a:tblGrid>
                <a:gridCol w="2303640"/>
              </a:tblGrid>
              <a:tr h="10209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S 3877/200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: 1ª CPI das ONG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PLS 07/2003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/>
                    </a:solidFill>
                  </a:tcPr>
                </a:tc>
              </a:tr>
              <a:tr h="2652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itutivo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duardo Barbosa (PSDB/M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texto aprovado no Senado foi apensado ao PL 3877/2004 (junto a outros 24 PLs que tramitavam na Câmara relacionados ao tema). O novo substitutivo passou a tramitar como PL n. 7.168/2014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aixaDeTexto 6"/>
          <p:cNvSpPr/>
          <p:nvPr/>
        </p:nvSpPr>
        <p:spPr>
          <a:xfrm>
            <a:off x="108000" y="36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Histórico de elaboração da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ítulo 1"/>
          <p:cNvSpPr/>
          <p:nvPr/>
        </p:nvSpPr>
        <p:spPr>
          <a:xfrm>
            <a:off x="4449600" y="787320"/>
            <a:ext cx="4586400" cy="5112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Edição de medidas provisórias e processo de regulam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7"/>
          <p:cNvSpPr/>
          <p:nvPr/>
        </p:nvSpPr>
        <p:spPr>
          <a:xfrm>
            <a:off x="2420280" y="78732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2014/20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Diagrama 25" descr=""/>
          <p:cNvPicPr/>
          <p:nvPr/>
        </p:nvPicPr>
        <p:blipFill>
          <a:blip r:embed="rId1"/>
          <a:stretch/>
        </p:blipFill>
        <p:spPr>
          <a:xfrm>
            <a:off x="66600" y="1627200"/>
            <a:ext cx="9077400" cy="2811600"/>
          </a:xfrm>
          <a:prstGeom prst="rect">
            <a:avLst/>
          </a:prstGeom>
          <a:ln w="0">
            <a:noFill/>
          </a:ln>
        </p:spPr>
      </p:pic>
      <p:sp>
        <p:nvSpPr>
          <p:cNvPr id="239" name="Retângulo 26"/>
          <p:cNvSpPr/>
          <p:nvPr/>
        </p:nvSpPr>
        <p:spPr>
          <a:xfrm>
            <a:off x="1258920" y="558972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onsulta pública regulament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13 set a 1º out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tângulo 26"/>
          <p:cNvSpPr/>
          <p:nvPr/>
        </p:nvSpPr>
        <p:spPr>
          <a:xfrm>
            <a:off x="3492360" y="564192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onsulta pública regulament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8 a 25 mai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Conector de seta reta 28"/>
          <p:cNvCxnSpPr/>
          <p:nvPr/>
        </p:nvCxnSpPr>
        <p:spPr>
          <a:xfrm>
            <a:off x="2195280" y="2781000"/>
            <a:ext cx="1080" cy="2664360"/>
          </a:xfrm>
          <a:prstGeom prst="straightConnector1">
            <a:avLst/>
          </a:prstGeom>
          <a:ln w="25560">
            <a:solidFill>
              <a:srgbClr val="7f7f7f"/>
            </a:solidFill>
            <a:prstDash val="sysDot"/>
            <a:miter/>
            <a:tailEnd len="med" type="triangle" w="med"/>
          </a:ln>
        </p:spPr>
      </p:cxnSp>
      <p:cxnSp>
        <p:nvCxnSpPr>
          <p:cNvPr id="242" name="Conector de seta reta 29"/>
          <p:cNvCxnSpPr/>
          <p:nvPr/>
        </p:nvCxnSpPr>
        <p:spPr>
          <a:xfrm>
            <a:off x="4355640" y="2781360"/>
            <a:ext cx="1080" cy="2736000"/>
          </a:xfrm>
          <a:prstGeom prst="straightConnector1">
            <a:avLst/>
          </a:prstGeom>
          <a:ln w="25560">
            <a:solidFill>
              <a:srgbClr val="7f7f7f"/>
            </a:solidFill>
            <a:prstDash val="sysDot"/>
            <a:miter/>
            <a:tailEnd len="med" type="triangle" w="med"/>
          </a:ln>
        </p:spPr>
      </p:cxnSp>
      <p:sp>
        <p:nvSpPr>
          <p:cNvPr id="243" name="Rectangle 4"/>
          <p:cNvSpPr/>
          <p:nvPr/>
        </p:nvSpPr>
        <p:spPr>
          <a:xfrm>
            <a:off x="2268360" y="3789360"/>
            <a:ext cx="2016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7030a0"/>
                </a:solidFill>
                <a:latin typeface="Calibri"/>
              </a:rPr>
              <a:t>Prorrogou entrada em vigor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7030a0"/>
                </a:solidFill>
                <a:latin typeface="Calibri"/>
              </a:rPr>
              <a:t>27 jul 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3"/>
          <p:cNvSpPr/>
          <p:nvPr/>
        </p:nvSpPr>
        <p:spPr>
          <a:xfrm>
            <a:off x="4356000" y="3789360"/>
            <a:ext cx="23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8064a2"/>
                </a:solidFill>
                <a:latin typeface="Calibri"/>
              </a:rPr>
              <a:t>Prorrogou entrada em vigor para</a:t>
            </a:r>
            <a:r>
              <a:rPr b="0" lang="pt-BR" sz="1800" spc="-1" strike="noStrike">
                <a:solidFill>
                  <a:srgbClr val="1f497d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7030a0"/>
                </a:solidFill>
                <a:latin typeface="Calibri"/>
              </a:rPr>
              <a:t>23 jan 2016 para União e Es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7030a0"/>
                </a:solidFill>
                <a:latin typeface="Calibri"/>
              </a:rPr>
              <a:t>1º jan 2017 para Municíp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4"/>
          <p:cNvSpPr/>
          <p:nvPr/>
        </p:nvSpPr>
        <p:spPr>
          <a:xfrm>
            <a:off x="20520" y="3716280"/>
            <a:ext cx="19638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7030a0"/>
                </a:solidFill>
                <a:latin typeface="Calibri"/>
              </a:rPr>
              <a:t>Previa entrada em vigor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7030a0"/>
                </a:solidFill>
                <a:latin typeface="Calibri"/>
              </a:rPr>
              <a:t>1o nov 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Conector de seta reta 14"/>
          <p:cNvCxnSpPr/>
          <p:nvPr/>
        </p:nvCxnSpPr>
        <p:spPr>
          <a:xfrm>
            <a:off x="6636960" y="2852280"/>
            <a:ext cx="1080" cy="2737800"/>
          </a:xfrm>
          <a:prstGeom prst="straightConnector1">
            <a:avLst/>
          </a:prstGeom>
          <a:ln w="25560">
            <a:solidFill>
              <a:srgbClr val="7f7f7f"/>
            </a:solidFill>
            <a:prstDash val="sysDot"/>
            <a:miter/>
            <a:tailEnd len="med" type="triangle" w="med"/>
          </a:ln>
        </p:spPr>
      </p:cxnSp>
      <p:sp>
        <p:nvSpPr>
          <p:cNvPr id="247" name="Rectangle 4"/>
          <p:cNvSpPr/>
          <p:nvPr/>
        </p:nvSpPr>
        <p:spPr>
          <a:xfrm>
            <a:off x="6878520" y="4533840"/>
            <a:ext cx="215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7030a0"/>
                </a:solidFill>
                <a:latin typeface="Calibri"/>
              </a:rPr>
              <a:t>Regulamenta a aplicação da lei para a </a:t>
            </a:r>
            <a:r>
              <a:rPr b="1" lang="pt-BR" sz="1800" spc="-1" strike="noStrike">
                <a:solidFill>
                  <a:srgbClr val="7030a0"/>
                </a:solidFill>
                <a:latin typeface="Calibri"/>
              </a:rPr>
              <a:t>Administração Pública Fed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6"/>
          <p:cNvSpPr/>
          <p:nvPr/>
        </p:nvSpPr>
        <p:spPr>
          <a:xfrm>
            <a:off x="0" y="2276640"/>
            <a:ext cx="9144000" cy="143460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3. Principais mudanças para OS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 Administração Púb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tângulo 1"/>
          <p:cNvSpPr/>
          <p:nvPr/>
        </p:nvSpPr>
        <p:spPr>
          <a:xfrm>
            <a:off x="71280" y="34920"/>
            <a:ext cx="72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</a:rPr>
              <a:t>:. Marco Regulatório das Organizações da Sociedade Civil: Lei 13.019/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38040" y="3220920"/>
            <a:ext cx="756144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VERSO AMPLO DE OS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quer OSC, independente de possuir qualificação como Uitilidade Pública, Cebas, ou Oscip poderá celebrar parcerias com a administração públ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79646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1800" spc="-1" strike="noStrike">
                <a:solidFill>
                  <a:srgbClr val="f79646"/>
                </a:solidFill>
                <a:latin typeface="Arial"/>
                <a:ea typeface="MS PGothic"/>
              </a:rPr>
              <a:t>Quem são essas organizaçõ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ções, fundações, organizações religiosas e as sociedades cooperativas que atuam com vulnerabilidade social, cooperativas sociais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MS PGothic"/>
              </a:rPr>
              <a:t>de combate à pobreza e geração de trabalho e rend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rt.2º). Não integra o campo da sociedade civil o  Sistema “S” (art.3º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aixaDeTexto 1"/>
          <p:cNvSpPr/>
          <p:nvPr/>
        </p:nvSpPr>
        <p:spPr>
          <a:xfrm>
            <a:off x="-224640" y="44280"/>
            <a:ext cx="485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Mas afinal, o que mudo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24000" y="215568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RANGÊNCIA NA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mas regras serão válidas em todo o Bra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324000" y="927000"/>
            <a:ext cx="7575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TAMENTO LEGAL ESPECÍF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ação de um regime jurídico próprio para as parcerias entre Estado e organizações da sociedade civ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aixaDeTexto 1"/>
          <p:cNvSpPr/>
          <p:nvPr/>
        </p:nvSpPr>
        <p:spPr>
          <a:xfrm>
            <a:off x="-224640" y="44280"/>
            <a:ext cx="485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Mas afinal, o que mudo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"/>
          <p:cNvSpPr/>
          <p:nvPr/>
        </p:nvSpPr>
        <p:spPr>
          <a:xfrm>
            <a:off x="179280" y="611280"/>
            <a:ext cx="878544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OS INSTRUMENTOS JURÍD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  <a:ea typeface="MS PGothic"/>
              </a:rPr>
              <a:t>Termo de Colabo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ara a execução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olíticas públicas com parâmetros consolida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, indicadores e formas de avaliação conhecidos. Ex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anutenção de equipamentos de assistência socia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reches e unidades atendimento educacional especializa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  <a:ea typeface="MS PGothic"/>
              </a:rPr>
              <a:t>Termo de Fo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ara execução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iciativas das próprias organizaçõ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, para fomentar projetos e eventos e ampliar o alcance das ações desenvolvidas por parte das organizações. Ex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rojetos de enfrentamento à violência contra a mulh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Exposições de arte, cultura popular, entre ou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  <a:ea typeface="MS PGothic"/>
              </a:rPr>
              <a:t>Acordo de Coop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Quando a parceri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não envolver transferência de recursos financeir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. O Acordo, em geral, não exige prévia realização de chamamento público. Ex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tercâmbio de conhecimentos e de quadros técnicos e cessão de servido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aixaDeTexto 1"/>
          <p:cNvSpPr/>
          <p:nvPr/>
        </p:nvSpPr>
        <p:spPr>
          <a:xfrm>
            <a:off x="-224640" y="44280"/>
            <a:ext cx="485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Mas afinal, o que mudo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"/>
          <p:cNvSpPr/>
          <p:nvPr/>
        </p:nvSpPr>
        <p:spPr>
          <a:xfrm>
            <a:off x="250920" y="907920"/>
            <a:ext cx="820872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VOS PRINCÍPIOS E DIRETRIZ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f79646"/>
                </a:solidFill>
                <a:latin typeface="Arial"/>
              </a:rPr>
              <a:t>Devem orientar a aplicação e interpretação da lei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rticipação social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rtalecimento da sociedade civil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nsparência na aplicação dos recursos público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estão pública democrática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galidade, legitimidade, impessoalidade, moralidade, publicidade, economicidade, eficiência e eficácia, já comuns à administração públic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264960" y="3716280"/>
            <a:ext cx="849636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f79646"/>
                </a:solidFill>
                <a:latin typeface="Arial"/>
              </a:rPr>
              <a:t>As relações de parceria devem observar, entre outro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priorização do controle de resultado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cooperação institucional entre os entes federados nas relações com as OSC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transparência e a publicidad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sensibilização e capacitação de gestores público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adoção de práticas para coibir a obtenção, individual ou coletiva, de benefícios ou vantagens indevid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aixaDeTexto 1"/>
          <p:cNvSpPr/>
          <p:nvPr/>
        </p:nvSpPr>
        <p:spPr>
          <a:xfrm>
            <a:off x="-224640" y="44280"/>
            <a:ext cx="485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Mas afinal, o que mudo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826920" y="357336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468360" y="1197000"/>
            <a:ext cx="81360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IS PARTICIPAÇ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Conselhos de Fomento e Colabo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aços de discussão sobre a agenda do Marco Regulatório das Organizações da Sociedade Civil em cada ente fede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Manifestação de Interesse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al que permite a qualquer pessoa, coletivo ou organ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stitucionalizada ou não) apresentar projetos à administ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ública para que esta avalie se irá realizar um chamamento público 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ão. A proposta a de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entificar a pessoa, o movimento, coletivo ou organização que a apresen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dicar o interesse público envolvido;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resentar o diagnóstico da realidade que se quer modific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aixaDeTexto 1"/>
          <p:cNvSpPr/>
          <p:nvPr/>
        </p:nvSpPr>
        <p:spPr>
          <a:xfrm>
            <a:off x="-31680" y="-100080"/>
            <a:ext cx="53690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0520"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8064a2"/>
                </a:solidFill>
                <a:latin typeface="Calibri"/>
                <a:ea typeface="Times New Roman"/>
              </a:rPr>
              <a:t>Para quem a lei não se aplic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tângulo 12"/>
          <p:cNvSpPr/>
          <p:nvPr/>
        </p:nvSpPr>
        <p:spPr>
          <a:xfrm>
            <a:off x="500040" y="919080"/>
            <a:ext cx="799308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0840" indent="-400320" algn="just">
              <a:lnSpc>
                <a:spcPct val="115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SAÚDE: Parcerias celebradas pelo SUS e isenções de programas de incentivo á saúde (Pronas e Pronon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840" indent="-400320" algn="just">
              <a:lnSpc>
                <a:spcPct val="115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Contratos de gestão (OSs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840" indent="-400320" algn="just">
              <a:lnSpc>
                <a:spcPct val="115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Termos de parceria (Oscips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840" indent="-400320" algn="just">
              <a:lnSpc>
                <a:spcPct val="115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Termos de compromisso cultural da Lei Cultura Viva (Pontos de Cultura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840" indent="-400320" algn="just">
              <a:lnSpc>
                <a:spcPct val="115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Sistema “S” e entidades de representação federativa (art. 3º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840" indent="-400320" algn="just">
              <a:lnSpc>
                <a:spcPct val="115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Repasses decorrentes (i) do Programa de Complementação ao Atendimento Educacional Especializado às Pessoas Portadoras de Deficiência - PAED, (ii) do Programa Dinheiro Direto na Escola e (iii) do Programa Nacional de Alimentação Escolar – PNA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ixaDeTexto 1"/>
          <p:cNvSpPr/>
          <p:nvPr/>
        </p:nvSpPr>
        <p:spPr>
          <a:xfrm>
            <a:off x="70920" y="44280"/>
            <a:ext cx="69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O que as organizações devem fazer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314280" y="932040"/>
            <a:ext cx="7993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1. AGIR COM MAIS PLANEJ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 a nova lei, o planejamento passa a ser um aspecto essencial nas relações de parceria e a OSC deverá conhecer bem os recursos necessáios para a sua realização, sejam eles humanos, técnicos ou fís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339840" y="2276640"/>
            <a:ext cx="7777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2. INCLUIR NO ESTATUTO SOCIAL</a:t>
            </a:r>
            <a:r>
              <a:rPr b="1" lang="en-US" sz="1800" spc="-1" strike="noStrike">
                <a:solidFill>
                  <a:srgbClr val="f7964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áusulas que indiqu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ão distribuição de lucr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dade de relevância pública e social correspondente ao objeto da parcer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ência de patrimônio para outra OSC, no caso de dissolu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rituração de acordo com as Normas Brasileiras de Contabil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aixaDeTexto 9"/>
          <p:cNvSpPr/>
          <p:nvPr/>
        </p:nvSpPr>
        <p:spPr>
          <a:xfrm>
            <a:off x="412920" y="4149720"/>
            <a:ext cx="7526160" cy="146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20"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79646"/>
                </a:solidFill>
                <a:latin typeface="Arial"/>
              </a:rPr>
              <a:t>3. COMPROVAR TEMPO MÍNIMO DE EXIST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01 ano –Municíp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02 anos - Es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03 anos – Uni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tângulo 11"/>
          <p:cNvSpPr/>
          <p:nvPr/>
        </p:nvSpPr>
        <p:spPr>
          <a:xfrm>
            <a:off x="2843280" y="5299200"/>
            <a:ext cx="561348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20"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*É possível 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</a:rPr>
              <a:t>reduzir esses prazos por ato específico de cada ente na hipótese de nenhuma organização atingi-los (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art. 33, V).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e o projeto for executado em rede, o prazo mínimo de existência da OSC responsável pela parceria será de 5 an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6"/>
          <p:cNvSpPr/>
          <p:nvPr/>
        </p:nvSpPr>
        <p:spPr>
          <a:xfrm>
            <a:off x="0" y="2276640"/>
            <a:ext cx="9144000" cy="137412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Breve retrato das OSCs e relação com as políticas públic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tângulo 1"/>
          <p:cNvSpPr/>
          <p:nvPr/>
        </p:nvSpPr>
        <p:spPr>
          <a:xfrm>
            <a:off x="71280" y="34920"/>
            <a:ext cx="72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</a:rPr>
              <a:t>:. Marco Regulatório das Organizações da Sociedade Civil: Lei 13.019/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aixaDeTexto 1"/>
          <p:cNvSpPr/>
          <p:nvPr/>
        </p:nvSpPr>
        <p:spPr>
          <a:xfrm>
            <a:off x="73080" y="-27000"/>
            <a:ext cx="868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8064a2"/>
                </a:solidFill>
                <a:latin typeface="Arial"/>
              </a:rPr>
              <a:t>O que as organizações devem fazer a partir de agor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250920" y="836640"/>
            <a:ext cx="8569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4. DEMONSTRAR EXPERIÊNCIA PRÉ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ovantes de atuação em outros projetos, seja com o poder público, com empresas, organismos internacionais ou outros parceir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órios de prestações de contas aprovadas, publicações temáticas, relatórios anuais de atividades, comprovação de participação em algum conselho de política 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324000" y="2637000"/>
            <a:ext cx="8064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5. TER CAPACIDADE TÉCNICA E OPERACION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desenvolver as ações propo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368280" y="342900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6. MANTER ATUALIZADA A REGULARIDADE JURÍDICA E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a regularidade juríd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tuto Social e todas as suas alterações registradas no Cartório de Registro de Pessoas Juríd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dos cadastrais no CNPJ atualizados, especialmente em relação ao endereç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a regularidade fisc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esentar as certidões previstas na regulamentação da l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324000" y="765000"/>
            <a:ext cx="8569080" cy="60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9646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79646"/>
                </a:solidFill>
                <a:latin typeface="Arial"/>
              </a:rPr>
              <a:t>Tenha contas rejeitadas </a:t>
            </a:r>
            <a:r>
              <a:rPr b="0" lang="en-US" sz="2000" spc="-1" strike="noStrike">
                <a:solidFill>
                  <a:srgbClr val="f79646"/>
                </a:solidFill>
                <a:latin typeface="Arial"/>
              </a:rPr>
              <a:t>pela administração pública nos últimos cinco anos, </a:t>
            </a:r>
            <a:r>
              <a:rPr b="1" lang="en-US" sz="2000" spc="-1" strike="noStrike" u="sng">
                <a:solidFill>
                  <a:srgbClr val="f79646"/>
                </a:solidFill>
                <a:uFillTx/>
                <a:latin typeface="Arial"/>
              </a:rPr>
              <a:t>exceto se</a:t>
            </a:r>
            <a:r>
              <a:rPr b="0" lang="en-US" sz="2000" spc="-1" strike="noStrike">
                <a:solidFill>
                  <a:srgbClr val="f7964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anada a irregularidade que motivou a rejeição e quitados os débit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considerada ou revista a decisão pela rejeiçã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preciação das contas estiver pendente de decisão sobre recurso com efeito suspens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79646"/>
                </a:solidFill>
                <a:latin typeface="Arial"/>
              </a:rPr>
              <a:t>b) T</a:t>
            </a:r>
            <a:r>
              <a:rPr b="1" lang="en-US" sz="2000" spc="-1" strike="noStrike">
                <a:solidFill>
                  <a:srgbClr val="f79646"/>
                </a:solidFill>
                <a:latin typeface="Arial"/>
              </a:rPr>
              <a:t>enham contas julgadas irregulares </a:t>
            </a:r>
            <a:r>
              <a:rPr b="0" lang="en-US" sz="2000" spc="-1" strike="noStrike">
                <a:solidFill>
                  <a:srgbClr val="f79646"/>
                </a:solidFill>
                <a:latin typeface="Arial"/>
              </a:rPr>
              <a:t>ou rejeitadas por qualquer Tribunal ou Conselho de Contas, em decisão irrecorrível, nos últimos oito 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79646"/>
                </a:solidFill>
                <a:latin typeface="Arial"/>
              </a:rPr>
              <a:t>c) </a:t>
            </a:r>
            <a:r>
              <a:rPr b="1" lang="en-US" sz="2000" spc="-1" strike="noStrike">
                <a:solidFill>
                  <a:srgbClr val="f79646"/>
                </a:solidFill>
                <a:latin typeface="Arial"/>
              </a:rPr>
              <a:t>Tenha sido punida </a:t>
            </a:r>
            <a:r>
              <a:rPr b="0" lang="en-US" sz="2000" spc="-1" strike="noStrike">
                <a:solidFill>
                  <a:srgbClr val="f79646"/>
                </a:solidFill>
                <a:latin typeface="Arial"/>
              </a:rPr>
              <a:t>pela administração pública nas seguintes situações</a:t>
            </a:r>
            <a:r>
              <a:rPr b="0" lang="en-US" sz="1800" spc="-1" strike="noStrike">
                <a:solidFill>
                  <a:srgbClr val="f7964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pensão de participação em licitação e impedimento de contratar com a administração públ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ação de inidoneidade para licitar ou contratar com a administração públ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pensão temporária da participação em chamamento público e impedimento de celebrar parcerias, por prazo não superior a dois an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ação de inidoneidade para participar em chamamento público ou celebrar parcer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ixaDeTexto 1"/>
          <p:cNvSpPr/>
          <p:nvPr/>
        </p:nvSpPr>
        <p:spPr>
          <a:xfrm>
            <a:off x="-484920" y="-27000"/>
            <a:ext cx="805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c0504d"/>
                </a:solidFill>
                <a:latin typeface="Arial"/>
              </a:rPr>
              <a:t>X</a:t>
            </a: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 Não poderá celebrar parcerias a OSC 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aixaDeTexto 1"/>
          <p:cNvSpPr/>
          <p:nvPr/>
        </p:nvSpPr>
        <p:spPr>
          <a:xfrm>
            <a:off x="-440280" y="-27000"/>
            <a:ext cx="727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c0504d"/>
                </a:solidFill>
                <a:latin typeface="Arial"/>
              </a:rPr>
              <a:t>X</a:t>
            </a: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 Não poderá celebrar parcerias a OS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"/>
          <p:cNvSpPr/>
          <p:nvPr/>
        </p:nvSpPr>
        <p:spPr>
          <a:xfrm>
            <a:off x="317520" y="981000"/>
            <a:ext cx="864072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79646"/>
                </a:solidFill>
                <a:latin typeface="Arial"/>
              </a:rPr>
              <a:t>Que tenha algum dirigen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tação de contas julgadas irregula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 rejeitadas por Tribunal ou Conselho de Contas de qualquer esfera da Federação, em decisão irrecorrível, nos últimos 8 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gad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ável por falta gra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inabilitados para o exercício de cargo em comissão ou função de confiança, enquanto durar a inabilitação; e considerads responsável p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o de improb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ro de Po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u do Ministério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igente de órgão ou entidade da administração pública 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ma esfera governament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qual será celebrada a parc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765000"/>
            <a:ext cx="865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1. CONSIDERAR CAPACIDADE TÉCNICA E OPERA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ar capacidade interna tanto em relação a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human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o a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materiais e tecnológic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ver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ação dos gesto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a que adquiram conhecimentos técnicos e disponham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raestrutura operacion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o acompanhamento das parcerias e a análise das prestações de co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233280" y="3808440"/>
            <a:ext cx="79390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2. REALIZAR CHAMAMENTO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r os interessados e apresentar procedimentos claros, objetivos, simplificados e, sempre que possível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droniza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elec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é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incipalmente em relaçã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Objeto da parcer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Metas a serem alcançad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Custos;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 Indicadores, quantitativos e qualitativos, de avaliação de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aixaDeTexto 1"/>
          <p:cNvSpPr/>
          <p:nvPr/>
        </p:nvSpPr>
        <p:spPr>
          <a:xfrm>
            <a:off x="-461880" y="-27000"/>
            <a:ext cx="805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O que muda para a Administração Públic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CaixaDeTexto 1"/>
          <p:cNvSpPr/>
          <p:nvPr/>
        </p:nvSpPr>
        <p:spPr>
          <a:xfrm>
            <a:off x="-461880" y="-27000"/>
            <a:ext cx="805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O que muda para a Administração Públic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aixaDeTexto 14"/>
          <p:cNvSpPr/>
          <p:nvPr/>
        </p:nvSpPr>
        <p:spPr>
          <a:xfrm>
            <a:off x="384120" y="4157640"/>
            <a:ext cx="8505720" cy="184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20"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79646"/>
                </a:solidFill>
                <a:latin typeface="Arial"/>
              </a:rPr>
              <a:t>4. JUSTIFICAR HIPÓTESES DE INEXIGI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2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iabilidade de competição, natureza singular do obj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ordo, ato ou compromisso inter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endas parlamentare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s que seja identificada a entidade beneficiária, inclusive subvenção soci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"/>
          <p:cNvSpPr/>
          <p:nvPr/>
        </p:nvSpPr>
        <p:spPr>
          <a:xfrm>
            <a:off x="316080" y="907920"/>
            <a:ext cx="8496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3. JUSTIFICAR CASOS DE DISPEN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ência decorrente de paralisação ou iminência de paralisação de atividades de relevante interesse público, pelo prazo de até 180 d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s de guerra, calamidade pública, grave perturbação da ordem pública ou ameaça à paz 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s de proteção a pessoas ameaçadas ou em situação que possa comprometer a sua seguranç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ividades voltadas ou vinculada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ços de educaçã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úde e assistência social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de que executadas por OSCS previamente credenciad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lo órgão gestor da respectiva polí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CaixaDeTexto 1"/>
          <p:cNvSpPr/>
          <p:nvPr/>
        </p:nvSpPr>
        <p:spPr>
          <a:xfrm>
            <a:off x="-461880" y="-27000"/>
            <a:ext cx="805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O que muda para a Administração Públic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395280" y="907920"/>
            <a:ext cx="8137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5. AGIR COM TRANSPARÊNCIA 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ter, em seu site na internet, a relação das parcerias celebradas com OSCs e dos respectivos planos de trabalho. As informações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Data de assinatura, identificação do instrumento de parceria e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órgão responsáv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Nome e CNPJ da OS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Descrição do objeto da parcer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 Valor total e valores liberados, quando for o ca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) Situação da prestação de contas;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 Valor total da remuneração da equipe de trabalho, as funções que seus integrantes desempenham e a remuneração prevista para o respectivo exercício, quando vinculados à execução do objeto e pagos com recursos da parc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95280" y="556416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6. PROMOVER FORMAÇÃO E CAPACI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stores públicos, organizações e conselheiros de polític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6"/>
          <p:cNvSpPr/>
          <p:nvPr/>
        </p:nvSpPr>
        <p:spPr>
          <a:xfrm>
            <a:off x="0" y="2276640"/>
            <a:ext cx="9144000" cy="13741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4. Como está organizada a Lei nº 13.019/2014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tângulo 1"/>
          <p:cNvSpPr/>
          <p:nvPr/>
        </p:nvSpPr>
        <p:spPr>
          <a:xfrm>
            <a:off x="71280" y="34920"/>
            <a:ext cx="72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</a:rPr>
              <a:t>:. Marco Regulatório das Organizações da Sociedade Civil: Lei 13.019/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Diagram 24" descr=""/>
          <p:cNvPicPr/>
          <p:nvPr/>
        </p:nvPicPr>
        <p:blipFill>
          <a:blip r:embed="rId1"/>
          <a:stretch/>
        </p:blipFill>
        <p:spPr>
          <a:xfrm>
            <a:off x="36360" y="2279520"/>
            <a:ext cx="8858520" cy="2159280"/>
          </a:xfrm>
          <a:prstGeom prst="rect">
            <a:avLst/>
          </a:prstGeom>
          <a:ln w="0">
            <a:noFill/>
          </a:ln>
        </p:spPr>
      </p:pic>
      <p:cxnSp>
        <p:nvCxnSpPr>
          <p:cNvPr id="303" name="Straight Arrow Connector 25"/>
          <p:cNvCxnSpPr/>
          <p:nvPr/>
        </p:nvCxnSpPr>
        <p:spPr>
          <a:xfrm>
            <a:off x="468000" y="3715920"/>
            <a:ext cx="834912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ítulo 1"/>
          <p:cNvSpPr/>
          <p:nvPr/>
        </p:nvSpPr>
        <p:spPr>
          <a:xfrm>
            <a:off x="0" y="979560"/>
            <a:ext cx="4392720" cy="495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1. Planej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tângulo 1"/>
          <p:cNvSpPr/>
          <p:nvPr/>
        </p:nvSpPr>
        <p:spPr>
          <a:xfrm>
            <a:off x="4572000" y="76500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Etapa comum tanto à administração pública quanto às organizações da sociedade civil. É a fase mais importante de uma parceri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tângulo 2"/>
          <p:cNvSpPr/>
          <p:nvPr/>
        </p:nvSpPr>
        <p:spPr>
          <a:xfrm>
            <a:off x="465120" y="2378160"/>
            <a:ext cx="4106880" cy="4483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crição da realidade que será objeto da parceria, devendo ser demonstrado o nexo entre as atividades ou projetos e meta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crição de metas e das atividad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visão de receitas e de despesa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ma de execução das atividades ou dos projetos e de cumprimento das metas a eles atrelada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ão dos parâmetros para aferição das meta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ções que demandarão pagamento em espécie, quando for o ca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tângulo 3"/>
          <p:cNvSpPr/>
          <p:nvPr/>
        </p:nvSpPr>
        <p:spPr>
          <a:xfrm>
            <a:off x="5003640" y="2565360"/>
            <a:ext cx="3780000" cy="3385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talhamento de todos os valores referentes a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gamento da equipe de trabalh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incluind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lores dos imposto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ribuições sociai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GT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éria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écimo-terceiro salári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alários proporcionai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rbas rescisórias;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mais encargos soci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tângulo 4"/>
          <p:cNvSpPr/>
          <p:nvPr/>
        </p:nvSpPr>
        <p:spPr>
          <a:xfrm>
            <a:off x="465120" y="191628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no de Trabalho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deverá conte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ítulo 1"/>
          <p:cNvSpPr/>
          <p:nvPr/>
        </p:nvSpPr>
        <p:spPr>
          <a:xfrm>
            <a:off x="0" y="773280"/>
            <a:ext cx="4392720" cy="495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2. Sele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tângulo 1"/>
          <p:cNvSpPr/>
          <p:nvPr/>
        </p:nvSpPr>
        <p:spPr>
          <a:xfrm>
            <a:off x="1116000" y="1874880"/>
            <a:ext cx="5977080" cy="4757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gramação orçamentária que autoriza e viabiliza a celebração da parcer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po de parceria a ser celebr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jeto da parcer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tas, prazos, condições, local e forma de apresentação das proposta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tas e critérios de seleção e julgamento das propostas (nesta parte, deverá ser apresentada também a metodologia de pontuação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lor ou teto previsto para a realização do objet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dições para interposição de recurso administrativ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nutas dos instrumentos por meio do qual será celebrada a parcer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didas de acessibilidade para pessoas com deficiência ou mobilidade reduzida e idosos, de acordo com as características do objeto da parc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tângulo 5"/>
          <p:cNvSpPr/>
          <p:nvPr/>
        </p:nvSpPr>
        <p:spPr>
          <a:xfrm>
            <a:off x="4483080" y="8524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Chamamento público e edi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tângulo 6"/>
          <p:cNvSpPr/>
          <p:nvPr/>
        </p:nvSpPr>
        <p:spPr>
          <a:xfrm>
            <a:off x="179280" y="14130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dital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verá conte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30560" y="12996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Arial"/>
              </a:rPr>
              <a:t>Histórico:</a:t>
            </a:r>
            <a:br>
              <a:rPr sz="3000"/>
            </a:br>
            <a:r>
              <a:rPr b="1" lang="pt-BR" sz="3000" spc="-1" strike="noStrike">
                <a:solidFill>
                  <a:srgbClr val="7f7f7f"/>
                </a:solidFill>
                <a:latin typeface="Arial"/>
              </a:rPr>
              <a:t>interfaces socioestata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tângulo 2"/>
          <p:cNvSpPr/>
          <p:nvPr/>
        </p:nvSpPr>
        <p:spPr>
          <a:xfrm>
            <a:off x="465120" y="1273320"/>
            <a:ext cx="82882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Redemocratizaçã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- garantia dos direito à liberdade de reunião, de criação e de atuação das OSC - anos 80 e 90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articipaçã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- Constituição Federal - participação e controle social por OSC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- Políticas públicas regulamentadas especialmente na década de 90 (ECA, Telecomunicações, SUS, Lei Rouanet, muitas outras) </a:t>
            </a:r>
            <a:br>
              <a:rPr sz="2000"/>
            </a:b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ontratualização</a:t>
            </a:r>
            <a:br>
              <a:rPr sz="32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- Regulamentação das relações jurídicas de parceria e prestação de serviço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ítulo 1"/>
          <p:cNvSpPr/>
          <p:nvPr/>
        </p:nvSpPr>
        <p:spPr>
          <a:xfrm>
            <a:off x="0" y="773280"/>
            <a:ext cx="4392720" cy="495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2. Sele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tângulo 5"/>
          <p:cNvSpPr/>
          <p:nvPr/>
        </p:nvSpPr>
        <p:spPr>
          <a:xfrm>
            <a:off x="4483080" y="8524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Comissão de sele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tângulo 3"/>
          <p:cNvSpPr/>
          <p:nvPr/>
        </p:nvSpPr>
        <p:spPr>
          <a:xfrm>
            <a:off x="250920" y="1700280"/>
            <a:ext cx="396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Órgão colegiado destinado a processar e julgar chamamentos públicos constituído por ato publicado em meio oficial de comunica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verá ter a participação de pelo menos 1 servidor ocupante de cargo efetivo ou emprego permanente do quadro de pessoal da administração públ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derá contar com o apoio de especialistas e membros de conselhos de políticas públicas setoriais indicados para esta finalida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tângulo 4"/>
          <p:cNvSpPr/>
          <p:nvPr/>
        </p:nvSpPr>
        <p:spPr>
          <a:xfrm>
            <a:off x="4843440" y="2276640"/>
            <a:ext cx="3851280" cy="3111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seleção das parcerias financiadas com recursos do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dos da criança e do adolescente, do idoso, do meio ambiente e de defesa de direitos difus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entre outros, poderá ser realizada pelos respectivo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selhos gestor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em substituição à comissão de seleção prevista na Lei nº 13.019/2014,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speitada a legislação específ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ítulo 1"/>
          <p:cNvSpPr/>
          <p:nvPr/>
        </p:nvSpPr>
        <p:spPr>
          <a:xfrm>
            <a:off x="0" y="773280"/>
            <a:ext cx="4392720" cy="495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2. Sele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tângulo 5"/>
          <p:cNvSpPr/>
          <p:nvPr/>
        </p:nvSpPr>
        <p:spPr>
          <a:xfrm>
            <a:off x="4483080" y="8524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Divulgação dos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tângulo 2"/>
          <p:cNvSpPr/>
          <p:nvPr/>
        </p:nvSpPr>
        <p:spPr>
          <a:xfrm>
            <a:off x="360360" y="142092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dital deverá ser amplamente divulgado no site do órgão público, com antecedência mínima de 30 (trinta) dias. Em seguida, observar as seguintes etap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Cs apresentam suas propo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. A administração pública analisa, no mínimo se há adequação: (i) aos objetivos específicos do programa ou da ação objeto da parceria;  (ii) valor de referência estabelecido no chamame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. Análise das propostas e julgamento de eventuais recurs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. Convocação  da OSC para comprovar 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enchimento dos requisitos previst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os artigos 33, 34 e 39 da Lei 13.019/2014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Esta etapa se dá mesmo nos casos em que não houve cham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ítulo 1"/>
          <p:cNvSpPr/>
          <p:nvPr/>
        </p:nvSpPr>
        <p:spPr>
          <a:xfrm>
            <a:off x="31680" y="836640"/>
            <a:ext cx="4392720" cy="495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3. Exec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tângulo 4"/>
          <p:cNvSpPr/>
          <p:nvPr/>
        </p:nvSpPr>
        <p:spPr>
          <a:xfrm>
            <a:off x="4495680" y="9144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Realização das atividades e execução dos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tângulo 1"/>
          <p:cNvSpPr/>
          <p:nvPr/>
        </p:nvSpPr>
        <p:spPr>
          <a:xfrm>
            <a:off x="166680" y="1515960"/>
            <a:ext cx="457200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que é permitido pagar com os recursos da parcer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tângulo 2"/>
          <p:cNvSpPr/>
          <p:nvPr/>
        </p:nvSpPr>
        <p:spPr>
          <a:xfrm>
            <a:off x="187200" y="2162160"/>
            <a:ext cx="4703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quipe de trabal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derá incluir pessoal próprio e todos os encargos sociais, observando que os valor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rrespondam às atividades previstas no Plano de Trabalho e à qualificação necessária para a função a ser desempenhad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jam compatíveis com o valor de mercado da região e não superior ao máximo pago pelo Poder Executivo;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jam proporcionais ao tempo de trabalho dedicado à parceria celeb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tângulo 3"/>
          <p:cNvSpPr/>
          <p:nvPr/>
        </p:nvSpPr>
        <p:spPr>
          <a:xfrm>
            <a:off x="166680" y="5780160"/>
            <a:ext cx="465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) Custos indire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Água, luz, internet, transporte, aluguel e telefone, bem como remunerações de serviços contábeis e de assessoria juríd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tângulo 5"/>
          <p:cNvSpPr/>
          <p:nvPr/>
        </p:nvSpPr>
        <p:spPr>
          <a:xfrm>
            <a:off x="5459400" y="2013120"/>
            <a:ext cx="3348000" cy="3934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que não é permitido pagar com os recursos da parceri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xa de administração, de gerência ou similar (não se confunde com os custos indiretos nem com a remuneração de pessoa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astos de finalidade diversa do objeto da parceria;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vidor ou empregado público, salvo nas hipóteses previstas em l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ítulo 1"/>
          <p:cNvSpPr/>
          <p:nvPr/>
        </p:nvSpPr>
        <p:spPr>
          <a:xfrm>
            <a:off x="0" y="836640"/>
            <a:ext cx="4392720" cy="495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4. Monito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tângulo 1"/>
          <p:cNvSpPr/>
          <p:nvPr/>
        </p:nvSpPr>
        <p:spPr>
          <a:xfrm>
            <a:off x="216000" y="1639800"/>
            <a:ext cx="396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realizar ações de monitoramento e avaliação, o poder público poderá contar com 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poio técnico de terceir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delegar competências ou até mesmo firmar parcerias com outros órgãos ou entidades que estejam próximos ao local do projeto a ser avali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análise dos resultados da parceria será descrita em um relatório técnico de monitoramento e avaliação, a ser apresentado à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issão de Monitoramento e Avali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tângulo 2"/>
          <p:cNvSpPr/>
          <p:nvPr/>
        </p:nvSpPr>
        <p:spPr>
          <a:xfrm>
            <a:off x="4395960" y="3573360"/>
            <a:ext cx="4572000" cy="1465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mpre que possível o acompanhamento das parcerias com tempo de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uração maior que um an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oderá contar com mais uma ferramenta: a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squisa de satisfaçã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 os beneficiári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tângulo 3"/>
          <p:cNvSpPr/>
          <p:nvPr/>
        </p:nvSpPr>
        <p:spPr>
          <a:xfrm>
            <a:off x="4395960" y="1916280"/>
            <a:ext cx="4497120" cy="1739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issão de Monitoramento e Avaliaçã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um órgão colegiado que tem por objetivo monitorar e avaliar as parcerias celebradas com organizações da sociedade civil. Terá ao menos  1 membro servidor de carrei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tângulo 4"/>
          <p:cNvSpPr/>
          <p:nvPr/>
        </p:nvSpPr>
        <p:spPr>
          <a:xfrm>
            <a:off x="4433760" y="5148360"/>
            <a:ext cx="4572000" cy="916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xecução da parceria também poderá ser acompanhada e fiscalizada pelo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selhos de Políticas Públ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tângulo 8"/>
          <p:cNvSpPr/>
          <p:nvPr/>
        </p:nvSpPr>
        <p:spPr>
          <a:xfrm>
            <a:off x="44956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Comissão de Monitoramento e Avali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ítulo 1"/>
          <p:cNvSpPr/>
          <p:nvPr/>
        </p:nvSpPr>
        <p:spPr>
          <a:xfrm>
            <a:off x="0" y="836640"/>
            <a:ext cx="4392720" cy="495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4. Monito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tângulo 5"/>
          <p:cNvSpPr/>
          <p:nvPr/>
        </p:nvSpPr>
        <p:spPr>
          <a:xfrm>
            <a:off x="160200" y="1335240"/>
            <a:ext cx="84441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esta fase, gestores públicos devem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companhar e fiscalizar a parceri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formar ao seu superior hierárquico algum acontecimento que comprometa as atividades ou metas da parceria ou qualquer indício de irregularidade na gestão dos recursos e apontar as providências a serem adotada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itir parecer de análise da prestação de contas fina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com base no relatório técnico de monitoramento e avaliação e em outros relatório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isponibilizar materiais e equipamentos tecnológicos necessários às atividades de monitoramento e avaliaçã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la nova lei, o gestor também tem a obrigação pessoal d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itir o parecer técnico e conclusiv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Caso as atividades da parceria não sejam realizadas pela organização ou se comprove que não foram bem executadas, a administração pública poderá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S PGothic"/>
              </a:rPr>
              <a:t>•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S PGothic"/>
              </a:rPr>
              <a:t>Retomar os bens públicos que estejam com a OSC parceira; 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S PGothic"/>
              </a:rPr>
              <a:t>•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S PGothic"/>
              </a:rPr>
              <a:t>Assumir a responsabilidade pela execução do restante do objeto previsto no Plano de Trabalh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*Tais medidas devem ser tomadas para que serviços essenciais à população não sejam interromp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tângulo 9"/>
          <p:cNvSpPr/>
          <p:nvPr/>
        </p:nvSpPr>
        <p:spPr>
          <a:xfrm>
            <a:off x="44956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Obrigações do ge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ítulo 1"/>
          <p:cNvSpPr/>
          <p:nvPr/>
        </p:nvSpPr>
        <p:spPr>
          <a:xfrm>
            <a:off x="17640" y="907920"/>
            <a:ext cx="4392360" cy="495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5. Prestação de co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tângulo 1"/>
          <p:cNvSpPr/>
          <p:nvPr/>
        </p:nvSpPr>
        <p:spPr>
          <a:xfrm>
            <a:off x="179280" y="1773360"/>
            <a:ext cx="46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verá possibilitar que o gestor público avalie 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umprimento do obje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 partir de verificação se as metas previstas foram alcança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relatório deverá conter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descrição das atividades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projetos desenvolvidos para a realização da parceria e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arativo das met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ropostas e dos resultados alcanç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le, devem ser anexados todos os documentos que comprovem a realização das ações, tais como listas de presença, fotos, vídeo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tângulo 2"/>
          <p:cNvSpPr/>
          <p:nvPr/>
        </p:nvSpPr>
        <p:spPr>
          <a:xfrm>
            <a:off x="5219640" y="2565360"/>
            <a:ext cx="3456000" cy="283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 hipótese de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cumprimento de metas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resultados estabelecidos no Plano de Trabalho, a administração pública pode solicitar que a OSC apresente 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latório de execução financeira,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om a descrição das despesas e receitas realiz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tângulo 6"/>
          <p:cNvSpPr/>
          <p:nvPr/>
        </p:nvSpPr>
        <p:spPr>
          <a:xfrm>
            <a:off x="44956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Foco nos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ítulo 1"/>
          <p:cNvSpPr/>
          <p:nvPr/>
        </p:nvSpPr>
        <p:spPr>
          <a:xfrm>
            <a:off x="17640" y="907920"/>
            <a:ext cx="4392360" cy="495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5. Prestação de co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CaixaDeTexto 6"/>
          <p:cNvSpPr/>
          <p:nvPr/>
        </p:nvSpPr>
        <p:spPr>
          <a:xfrm>
            <a:off x="684360" y="1844640"/>
            <a:ext cx="683892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20"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 lei també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efine prazo de prescrição em 5 (cinco) anos, contados a partir da data da apresentação da prestação de contas. (art. 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define prestação de contas parcial para as parcerias cujo prazo de duração seja superior a 01 (um) ano (art. 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ossibilita que cada ente federado crie suas regras simplificadas de prestação de contas, de acordo com sua realidade e independente do recorte de 600 mil re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Faculta à OSC a solicitação de autorização para a Administração Pública a fim de ressarcir o erário por meio de ações compensatórias (art. 72, §2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tângulo 7"/>
          <p:cNvSpPr/>
          <p:nvPr/>
        </p:nvSpPr>
        <p:spPr>
          <a:xfrm>
            <a:off x="44956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Novos praz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6"/>
          <p:cNvSpPr/>
          <p:nvPr/>
        </p:nvSpPr>
        <p:spPr>
          <a:xfrm>
            <a:off x="0" y="2276640"/>
            <a:ext cx="9144000" cy="13741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4. Desafio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e oportunidad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tângulo 1"/>
          <p:cNvSpPr/>
          <p:nvPr/>
        </p:nvSpPr>
        <p:spPr>
          <a:xfrm>
            <a:off x="71280" y="34920"/>
            <a:ext cx="72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</a:rPr>
              <a:t>:. Marco Regulatório das Organizações da Sociedade Civil: Lei 13.019/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1"/>
          <p:cNvSpPr/>
          <p:nvPr/>
        </p:nvSpPr>
        <p:spPr>
          <a:xfrm>
            <a:off x="395280" y="870120"/>
            <a:ext cx="32400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f79646"/>
                </a:solidFill>
                <a:latin typeface="Calibri"/>
              </a:rPr>
              <a:t>Desaf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Cuidar para que a aplicação do MROSC não seja uma exceçã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Evitar migração para Contratos de Gestão ou Termos de Parceria, de modo não planej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tângulo 11"/>
          <p:cNvSpPr/>
          <p:nvPr/>
        </p:nvSpPr>
        <p:spPr>
          <a:xfrm>
            <a:off x="4140360" y="855720"/>
            <a:ext cx="453852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f79646"/>
                </a:solidFill>
                <a:latin typeface="Calibri"/>
              </a:rPr>
              <a:t>Oportunidad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omover debates no município e nos estado de São Paulo sobre a elaboração dos decretos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regulamentadores e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a adaptação das legislações locai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Colaborar com a construção de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critérios de seleção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as OSCs,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indicadores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de monitoramento e avaliaçã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Fortalecer a agenda de participação e fortalecimento da sociedade civil e transparência na utilização dos recursos públic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CaixaDeTexto 5"/>
          <p:cNvSpPr/>
          <p:nvPr/>
        </p:nvSpPr>
        <p:spPr>
          <a:xfrm>
            <a:off x="100080" y="45720"/>
            <a:ext cx="893592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8064a2"/>
                </a:solidFill>
                <a:latin typeface="Arial"/>
                <a:ea typeface="MS PGothic"/>
              </a:rPr>
              <a:t>Desafios e oportunid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Conector reto 13"/>
          <p:cNvSpPr/>
          <p:nvPr/>
        </p:nvSpPr>
        <p:spPr>
          <a:xfrm>
            <a:off x="-108000" y="69228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Imagem 2" descr=""/>
          <p:cNvPicPr/>
          <p:nvPr/>
        </p:nvPicPr>
        <p:blipFill>
          <a:blip r:embed="rId1"/>
          <a:srcRect l="0" t="33161" r="0" b="31467"/>
          <a:stretch/>
        </p:blipFill>
        <p:spPr>
          <a:xfrm>
            <a:off x="0" y="0"/>
            <a:ext cx="9158400" cy="1936800"/>
          </a:xfrm>
          <a:prstGeom prst="rect">
            <a:avLst/>
          </a:prstGeom>
          <a:ln w="0">
            <a:noFill/>
          </a:ln>
        </p:spPr>
      </p:pic>
      <p:sp>
        <p:nvSpPr>
          <p:cNvPr id="367" name="CaixaDeTexto 5"/>
          <p:cNvSpPr/>
          <p:nvPr/>
        </p:nvSpPr>
        <p:spPr>
          <a:xfrm>
            <a:off x="353880" y="2135160"/>
            <a:ext cx="8790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7f7f7f"/>
                </a:solidFill>
                <a:latin typeface="Calibri"/>
              </a:rPr>
              <a:t>Duração: </a:t>
            </a:r>
            <a:r>
              <a:rPr b="1" lang="pt-BR" sz="3000" spc="-1" strike="noStrike">
                <a:solidFill>
                  <a:srgbClr val="0a2653"/>
                </a:solidFill>
                <a:latin typeface="Calibri"/>
              </a:rPr>
              <a:t>3 an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7f7f7f"/>
                </a:solidFill>
                <a:latin typeface="Calibri"/>
              </a:rPr>
              <a:t>Parceiros: </a:t>
            </a:r>
            <a:r>
              <a:rPr b="1" lang="pt-BR" sz="3000" spc="-1" strike="noStrike">
                <a:solidFill>
                  <a:srgbClr val="0a2653"/>
                </a:solidFill>
                <a:latin typeface="Calibri"/>
              </a:rPr>
              <a:t>GIFE + IPEA e suporte União Europe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7f7f7f"/>
                </a:solidFill>
                <a:latin typeface="Calibri"/>
              </a:rPr>
              <a:t>Objetivos gera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5"/>
          <p:cNvSpPr/>
          <p:nvPr/>
        </p:nvSpPr>
        <p:spPr>
          <a:xfrm>
            <a:off x="739800" y="3816360"/>
            <a:ext cx="4226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 baseline="30000">
                <a:solidFill>
                  <a:srgbClr val="0a2653"/>
                </a:solidFill>
                <a:latin typeface="Calibri"/>
                <a:ea typeface="CooperHewitt-Book"/>
              </a:rPr>
              <a:t>Produção de conhecimento e alterações regulatórias </a:t>
            </a:r>
            <a:r>
              <a:rPr b="0" lang="pt-PT" sz="3200" spc="-1" strike="noStrike" baseline="30000">
                <a:solidFill>
                  <a:srgbClr val="0a2653"/>
                </a:solidFill>
                <a:latin typeface="Calibri"/>
                <a:ea typeface="CooperHewitt-Book"/>
              </a:rPr>
              <a:t>que ampliem a sustentabilidade econômica e política das OS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9"/>
          <p:cNvSpPr/>
          <p:nvPr/>
        </p:nvSpPr>
        <p:spPr>
          <a:xfrm>
            <a:off x="4748040" y="3809880"/>
            <a:ext cx="417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 baseline="30000">
                <a:solidFill>
                  <a:srgbClr val="0a2653"/>
                </a:solidFill>
                <a:latin typeface="Calibri"/>
                <a:ea typeface="CooperHewitt-Book"/>
              </a:rPr>
              <a:t>Protagonismo das OSCs na defesa de direitos</a:t>
            </a:r>
            <a:r>
              <a:rPr b="0" lang="pt-PT" sz="3200" spc="-1" strike="noStrike" baseline="30000">
                <a:solidFill>
                  <a:srgbClr val="0a2653"/>
                </a:solidFill>
                <a:latin typeface="Calibri"/>
                <a:ea typeface="CooperHewitt-Book"/>
              </a:rPr>
              <a:t>, redução das desigualdades sociais e fortalecimento da democra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tângulo 3"/>
          <p:cNvSpPr/>
          <p:nvPr/>
        </p:nvSpPr>
        <p:spPr>
          <a:xfrm>
            <a:off x="250920" y="1197000"/>
            <a:ext cx="8667720" cy="48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dosos (art.230) -  </a:t>
            </a:r>
            <a:r>
              <a:rPr b="0" lang="en-US" sz="1900" spc="-1" strike="noStrike">
                <a:solidFill>
                  <a:srgbClr val="604a7b"/>
                </a:solidFill>
                <a:latin typeface="Calibri"/>
              </a:rPr>
              <a:t>A família, </a:t>
            </a:r>
            <a:r>
              <a:rPr b="1" lang="en-US" sz="1900" spc="-1" strike="noStrike" u="sng">
                <a:solidFill>
                  <a:srgbClr val="604a7b"/>
                </a:solidFill>
                <a:uFillTx/>
                <a:latin typeface="Calibri"/>
              </a:rPr>
              <a:t>a sociedade </a:t>
            </a:r>
            <a:r>
              <a:rPr b="0" lang="en-US" sz="1900" spc="-1" strike="noStrike">
                <a:solidFill>
                  <a:srgbClr val="604a7b"/>
                </a:solidFill>
                <a:latin typeface="Calibri"/>
              </a:rPr>
              <a:t>e o Estado têm o dever de amparar as pessoas idos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Ações e serviços públicos de saúde (art.198) - </a:t>
            </a:r>
            <a:r>
              <a:rPr b="0" lang="en-US" sz="1900" spc="-1" strike="noStrike">
                <a:solidFill>
                  <a:srgbClr val="604a7b"/>
                </a:solidFill>
                <a:latin typeface="Calibri"/>
              </a:rPr>
              <a:t>As ações e serviços públicos de saúde são organizadas de acordo com as seguintes diretriz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604a7b"/>
                </a:solidFill>
                <a:latin typeface="Calibri"/>
                <a:ea typeface="MS PGothic"/>
              </a:rPr>
              <a:t>     </a:t>
            </a:r>
            <a:r>
              <a:rPr b="0" lang="en-US" sz="1900" spc="-1" strike="noStrike">
                <a:solidFill>
                  <a:srgbClr val="604a7b"/>
                </a:solidFill>
                <a:latin typeface="Calibri"/>
                <a:ea typeface="MS PGothic"/>
              </a:rPr>
              <a:t>(…) III - </a:t>
            </a:r>
            <a:r>
              <a:rPr b="1" lang="en-US" sz="1900" spc="-1" strike="noStrike" u="sng">
                <a:solidFill>
                  <a:srgbClr val="604a7b"/>
                </a:solidFill>
                <a:uFillTx/>
                <a:latin typeface="Calibri"/>
                <a:ea typeface="MS PGothic"/>
              </a:rPr>
              <a:t>participação da comunidade</a:t>
            </a:r>
            <a:r>
              <a:rPr b="0" lang="en-US" sz="1900" spc="-1" strike="noStrike">
                <a:solidFill>
                  <a:srgbClr val="604a7b"/>
                </a:solidFill>
                <a:latin typeface="Calibri"/>
                <a:ea typeface="MS PGothic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Educação (art.205) - </a:t>
            </a:r>
            <a:r>
              <a:rPr b="0" lang="en-US" sz="1900" spc="-1" strike="noStrike">
                <a:solidFill>
                  <a:srgbClr val="604a7b"/>
                </a:solidFill>
                <a:latin typeface="Calibri"/>
              </a:rPr>
              <a:t>A educação, direito de todos e dever do Estado e da família, será promovida e incentivada </a:t>
            </a:r>
            <a:r>
              <a:rPr b="1" lang="en-US" sz="1900" spc="-1" strike="noStrike" u="sng">
                <a:solidFill>
                  <a:srgbClr val="604a7b"/>
                </a:solidFill>
                <a:uFillTx/>
                <a:latin typeface="Calibri"/>
              </a:rPr>
              <a:t>com a colaboração da sociedade</a:t>
            </a:r>
            <a:r>
              <a:rPr b="0" lang="en-US" sz="1900" spc="-1" strike="noStrike">
                <a:solidFill>
                  <a:srgbClr val="604a7b"/>
                </a:solidFill>
                <a:latin typeface="Calibri"/>
              </a:rPr>
              <a:t>[…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efesa do meio ambiente ecologicamente equilibrado (art.225) </a:t>
            </a:r>
            <a:r>
              <a:rPr b="1" lang="pt-BR" sz="19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900" spc="-1" strike="noStrike">
                <a:solidFill>
                  <a:srgbClr val="8064a2"/>
                </a:solidFill>
                <a:latin typeface="Calibri"/>
              </a:rPr>
              <a:t>T</a:t>
            </a:r>
            <a:r>
              <a:rPr b="0" lang="en-US" sz="1900" spc="-1" strike="noStrike">
                <a:solidFill>
                  <a:srgbClr val="604a7b"/>
                </a:solidFill>
                <a:latin typeface="Calibri"/>
              </a:rPr>
              <a:t>odos têm direito ao meio ambiente ecologicamente equilibrado impondo-se ao Poder Público e </a:t>
            </a:r>
            <a:r>
              <a:rPr b="1" lang="en-US" sz="1900" spc="-1" strike="noStrike" u="sng">
                <a:solidFill>
                  <a:srgbClr val="604a7b"/>
                </a:solidFill>
                <a:uFillTx/>
                <a:latin typeface="Calibri"/>
              </a:rPr>
              <a:t>à coletividade </a:t>
            </a:r>
            <a:r>
              <a:rPr b="0" lang="en-US" sz="1900" spc="-1" strike="noStrike">
                <a:solidFill>
                  <a:srgbClr val="604a7b"/>
                </a:solidFill>
                <a:latin typeface="Calibri"/>
              </a:rPr>
              <a:t>o dever de defendê-lo e preservá- lo para as presentes e futuras geraçõ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250920" y="622440"/>
            <a:ext cx="866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8064a2"/>
                </a:solidFill>
                <a:latin typeface="Calibri"/>
              </a:rPr>
              <a:t>Previsão na </a:t>
            </a:r>
            <a:r>
              <a:rPr b="1" lang="en-US" sz="2200" spc="-1" strike="noStrike">
                <a:solidFill>
                  <a:srgbClr val="8064a2"/>
                </a:solidFill>
                <a:latin typeface="Calibri"/>
              </a:rPr>
              <a:t>CF</a:t>
            </a:r>
            <a:r>
              <a:rPr b="1" lang="pt-BR" sz="2200" spc="-1" strike="noStrike">
                <a:solidFill>
                  <a:srgbClr val="8064a2"/>
                </a:solidFill>
                <a:latin typeface="Calibri"/>
              </a:rPr>
              <a:t>/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ector reto 13"/>
          <p:cNvSpPr/>
          <p:nvPr/>
        </p:nvSpPr>
        <p:spPr>
          <a:xfrm>
            <a:off x="-3492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ixaDeTexto 6"/>
          <p:cNvSpPr/>
          <p:nvPr/>
        </p:nvSpPr>
        <p:spPr>
          <a:xfrm>
            <a:off x="108000" y="-27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79646"/>
                </a:solidFill>
                <a:latin typeface="Calibri"/>
              </a:rPr>
              <a:t>Relação das OSCs com as 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CaixaDeTexto 5"/>
          <p:cNvSpPr/>
          <p:nvPr/>
        </p:nvSpPr>
        <p:spPr>
          <a:xfrm>
            <a:off x="73080" y="101520"/>
            <a:ext cx="87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0a2653"/>
                </a:solidFill>
                <a:latin typeface="Calibri"/>
              </a:rPr>
              <a:t>Principais a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" descr="Resultado de imagem para lupa"/>
          <p:cNvPicPr/>
          <p:nvPr/>
        </p:nvPicPr>
        <p:blipFill>
          <a:blip r:embed="rId1"/>
          <a:stretch/>
        </p:blipFill>
        <p:spPr>
          <a:xfrm>
            <a:off x="865080" y="1000080"/>
            <a:ext cx="1238400" cy="1262160"/>
          </a:xfrm>
          <a:prstGeom prst="rect">
            <a:avLst/>
          </a:prstGeom>
          <a:ln w="0">
            <a:noFill/>
          </a:ln>
        </p:spPr>
      </p:pic>
      <p:sp>
        <p:nvSpPr>
          <p:cNvPr id="372" name="CaixaDeTexto 6"/>
          <p:cNvSpPr/>
          <p:nvPr/>
        </p:nvSpPr>
        <p:spPr>
          <a:xfrm>
            <a:off x="2803680" y="847800"/>
            <a:ext cx="539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a2653"/>
                </a:solidFill>
                <a:latin typeface="Calibri"/>
              </a:rPr>
              <a:t>Monitoram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ngresso 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TF +  ST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ei 13.019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Botão de ação: Informações 8"/>
          <p:cNvSpPr/>
          <p:nvPr/>
        </p:nvSpPr>
        <p:spPr>
          <a:xfrm>
            <a:off x="868320" y="3343320"/>
            <a:ext cx="1157400" cy="1228680"/>
          </a:xfrm>
          <a:custGeom>
            <a:avLst/>
            <a:gdLst>
              <a:gd name="textAreaLeft" fmla="*/ 74880 w 1157400"/>
              <a:gd name="textAreaRight" fmla="*/ 1082520 w 1157400"/>
              <a:gd name="textAreaTop" fmla="*/ 74880 h 1228680"/>
              <a:gd name="textAreaBottom" fmla="*/ 1153800 h 1228680"/>
            </a:gdLst>
            <a:ahLst/>
            <a:rect l="textAreaLeft" t="textAreaTop" r="textAreaRight" b="textAreaBottom"/>
            <a:pathLst>
              <a:path w="21600" h="22930">
                <a:moveTo>
                  <a:pt x="0" y="0"/>
                </a:moveTo>
                <a:lnTo>
                  <a:pt x="21600" y="0"/>
                </a:lnTo>
                <a:lnTo>
                  <a:pt x="21600" y="22930"/>
                </a:lnTo>
                <a:lnTo>
                  <a:pt x="0" y="22930"/>
                </a:lnTo>
                <a:close/>
              </a:path>
              <a:path fill="lightenLess" w="21600" h="229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0">
                <a:moveTo>
                  <a:pt x="21600" y="0"/>
                </a:moveTo>
                <a:lnTo>
                  <a:pt x="21600" y="22930"/>
                </a:lnTo>
                <a:lnTo>
                  <a:pt x="20200" y="21530"/>
                </a:lnTo>
                <a:lnTo>
                  <a:pt x="20200" y="1400"/>
                </a:lnTo>
                <a:close/>
              </a:path>
              <a:path fill="darkenLess" w="21600" h="22930">
                <a:moveTo>
                  <a:pt x="21600" y="22930"/>
                </a:moveTo>
                <a:lnTo>
                  <a:pt x="0" y="22930"/>
                </a:lnTo>
                <a:lnTo>
                  <a:pt x="1400" y="21530"/>
                </a:lnTo>
                <a:lnTo>
                  <a:pt x="20200" y="21530"/>
                </a:lnTo>
                <a:close/>
              </a:path>
              <a:path fill="lighten" w="21600" h="22930">
                <a:moveTo>
                  <a:pt x="0" y="229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0"/>
                </a:lnTo>
                <a:close/>
              </a:path>
              <a:path fill="darken" w="21600" h="22930">
                <a:moveTo>
                  <a:pt x="10800" y="445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930">
                <a:moveTo>
                  <a:pt x="10800" y="483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930">
                <a:moveTo>
                  <a:pt x="8224" y="8889"/>
                </a:moveTo>
                <a:lnTo>
                  <a:pt x="12088" y="8889"/>
                </a:lnTo>
                <a:lnTo>
                  <a:pt x="12088" y="15886"/>
                </a:lnTo>
                <a:lnTo>
                  <a:pt x="13376" y="15886"/>
                </a:lnTo>
                <a:lnTo>
                  <a:pt x="13376" y="16809"/>
                </a:lnTo>
                <a:lnTo>
                  <a:pt x="8224" y="16809"/>
                </a:lnTo>
                <a:lnTo>
                  <a:pt x="8224" y="15886"/>
                </a:lnTo>
                <a:lnTo>
                  <a:pt x="9512" y="15886"/>
                </a:lnTo>
                <a:lnTo>
                  <a:pt x="9512" y="9794"/>
                </a:lnTo>
                <a:lnTo>
                  <a:pt x="8224" y="9794"/>
                </a:lnTo>
                <a:close/>
              </a:path>
            </a:pathLst>
          </a:custGeom>
          <a:noFill/>
          <a:ln w="28440">
            <a:solidFill>
              <a:srgbClr val="0a265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CaixaDeTexto 11"/>
          <p:cNvSpPr/>
          <p:nvPr/>
        </p:nvSpPr>
        <p:spPr>
          <a:xfrm>
            <a:off x="2803680" y="3013200"/>
            <a:ext cx="6340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a2653"/>
                </a:solidFill>
                <a:latin typeface="Calibri"/>
              </a:rPr>
              <a:t>Produção de informações, debates e divulg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mplementação do MRO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TC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centivo às do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undos patrimoni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tângulo 3"/>
          <p:cNvSpPr/>
          <p:nvPr/>
        </p:nvSpPr>
        <p:spPr>
          <a:xfrm>
            <a:off x="7812000" y="3987720"/>
            <a:ext cx="647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CaixaDeTexto 6"/>
          <p:cNvSpPr/>
          <p:nvPr/>
        </p:nvSpPr>
        <p:spPr>
          <a:xfrm>
            <a:off x="216000" y="2303640"/>
            <a:ext cx="89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8064a2"/>
                </a:solidFill>
                <a:latin typeface="Calibri"/>
              </a:rPr>
              <a:t>Obrigad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line.souza@fgv.b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4" descr="Captura de Tela 2015-08-10 às 10.13.06.png"/>
          <p:cNvPicPr/>
          <p:nvPr/>
        </p:nvPicPr>
        <p:blipFill>
          <a:blip r:embed="rId1"/>
          <a:srcRect l="33" t="3692" r="4242" b="14915"/>
          <a:stretch/>
        </p:blipFill>
        <p:spPr>
          <a:xfrm>
            <a:off x="4140360" y="554040"/>
            <a:ext cx="4905360" cy="4753080"/>
          </a:xfrm>
          <a:prstGeom prst="rect">
            <a:avLst/>
          </a:prstGeom>
          <a:ln w="0">
            <a:noFill/>
          </a:ln>
        </p:spPr>
      </p:pic>
      <p:sp>
        <p:nvSpPr>
          <p:cNvPr id="110" name="Espaço Reservado para Conteúdo 2"/>
          <p:cNvSpPr/>
          <p:nvPr/>
        </p:nvSpPr>
        <p:spPr>
          <a:xfrm>
            <a:off x="468360" y="765000"/>
            <a:ext cx="43387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8064a2"/>
                </a:solidFill>
                <a:latin typeface="Calibri"/>
              </a:rPr>
              <a:t>324.847 mil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undações e associ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23% no Estado de São Pa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ixaDeTexto 3"/>
          <p:cNvSpPr/>
          <p:nvPr/>
        </p:nvSpPr>
        <p:spPr>
          <a:xfrm>
            <a:off x="468360" y="1628640"/>
            <a:ext cx="4968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8064a2"/>
                </a:solidFill>
                <a:latin typeface="Calibri"/>
              </a:rPr>
              <a:t>Áreas de atu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30,1% Defesa de direitos e interesses dos cidadã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28,5% Religio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12,7% Cultura e recre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10,5% Assistênci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ângulo 18"/>
          <p:cNvSpPr/>
          <p:nvPr/>
        </p:nvSpPr>
        <p:spPr>
          <a:xfrm>
            <a:off x="471600" y="3255840"/>
            <a:ext cx="4751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8064a2"/>
                </a:solidFill>
                <a:latin typeface="Calibri"/>
              </a:rPr>
              <a:t>2,1 milhõ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e pessoas com carteira assinada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4,9% dos trabalhadores brasilei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33440" y="432756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8064a2"/>
                </a:solidFill>
                <a:latin typeface="Calibri"/>
              </a:rPr>
              <a:t>Parcerias federais (2008-20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.483 parcerias com 3.612 entidade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,2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aixaDeTexto 4"/>
          <p:cNvSpPr/>
          <p:nvPr/>
        </p:nvSpPr>
        <p:spPr>
          <a:xfrm>
            <a:off x="5929200" y="5362560"/>
            <a:ext cx="253044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ont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Ipea/Mapa das OSCs, 2016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Fasfil/IBGE,201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Siconv, 201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onector reto 13"/>
          <p:cNvSpPr/>
          <p:nvPr/>
        </p:nvSpPr>
        <p:spPr>
          <a:xfrm>
            <a:off x="-3492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ixaDeTexto 11"/>
          <p:cNvSpPr/>
          <p:nvPr/>
        </p:nvSpPr>
        <p:spPr>
          <a:xfrm>
            <a:off x="54000" y="2700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f79646"/>
                </a:solidFill>
                <a:latin typeface="Calibri"/>
              </a:rPr>
              <a:t>Breve retrato das OSCs no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30560" y="12996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Arial"/>
              </a:rPr>
              <a:t>Interfaces socioestatais: </a:t>
            </a:r>
            <a:r>
              <a:rPr b="1" lang="pt-BR" sz="2600" spc="-1" strike="noStrike">
                <a:solidFill>
                  <a:srgbClr val="7f7f7f"/>
                </a:solidFill>
                <a:latin typeface="Arial"/>
              </a:rPr>
              <a:t>Participação social no Ciclo de Políticas Públ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magem 5" descr=""/>
          <p:cNvPicPr/>
          <p:nvPr/>
        </p:nvPicPr>
        <p:blipFill>
          <a:blip r:embed="rId1"/>
          <a:stretch/>
        </p:blipFill>
        <p:spPr>
          <a:xfrm>
            <a:off x="2550960" y="2341440"/>
            <a:ext cx="4453200" cy="33084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8"/>
          <p:cNvGrpSpPr/>
          <p:nvPr/>
        </p:nvGrpSpPr>
        <p:grpSpPr>
          <a:xfrm>
            <a:off x="2227320" y="1498680"/>
            <a:ext cx="4713120" cy="4877280"/>
            <a:chOff x="2227320" y="1498680"/>
            <a:chExt cx="4713120" cy="4877280"/>
          </a:xfrm>
        </p:grpSpPr>
        <p:sp>
          <p:nvSpPr>
            <p:cNvPr id="120" name="TextBox 11"/>
            <p:cNvSpPr/>
            <p:nvPr/>
          </p:nvSpPr>
          <p:spPr>
            <a:xfrm>
              <a:off x="4291200" y="1498680"/>
              <a:ext cx="1051560" cy="77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300" spc="-1" strike="noStrike">
                  <a:solidFill>
                    <a:srgbClr val="e46c0a"/>
                  </a:solidFill>
                  <a:latin typeface="Arial"/>
                </a:rPr>
                <a:t>1.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e46c0a"/>
                  </a:solidFill>
                  <a:latin typeface="Arial"/>
                </a:rPr>
                <a:t>FORMAÇÃO DA AGEND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3"/>
            <p:cNvSpPr/>
            <p:nvPr/>
          </p:nvSpPr>
          <p:spPr>
            <a:xfrm>
              <a:off x="3071880" y="5764320"/>
              <a:ext cx="1584360" cy="61164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300" spc="-1" strike="noStrike">
                  <a:solidFill>
                    <a:srgbClr val="e46c0a"/>
                  </a:solidFill>
                  <a:latin typeface="Arial"/>
                </a:rPr>
                <a:t>3.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e46c0a"/>
                  </a:solidFill>
                  <a:latin typeface="Arial"/>
                </a:rPr>
                <a:t>IMPLEMENTAÇÃ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14"/>
            <p:cNvSpPr/>
            <p:nvPr/>
          </p:nvSpPr>
          <p:spPr>
            <a:xfrm>
              <a:off x="5121360" y="5741280"/>
              <a:ext cx="1481760" cy="61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300" spc="-1" strike="noStrike">
                  <a:solidFill>
                    <a:srgbClr val="e46c0a"/>
                  </a:solidFill>
                  <a:latin typeface="Arial"/>
                </a:rPr>
                <a:t>4.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e46c0a"/>
                  </a:solidFill>
                  <a:latin typeface="Arial"/>
                </a:rPr>
                <a:t>MONITORAMEN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15"/>
            <p:cNvSpPr/>
            <p:nvPr/>
          </p:nvSpPr>
          <p:spPr>
            <a:xfrm>
              <a:off x="5739120" y="2340720"/>
              <a:ext cx="1201320" cy="61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300" spc="-1" strike="noStrike">
                  <a:solidFill>
                    <a:srgbClr val="e46c0a"/>
                  </a:solidFill>
                  <a:latin typeface="Arial"/>
                </a:rPr>
                <a:t>5.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e46c0a"/>
                  </a:solidFill>
                  <a:latin typeface="Arial"/>
                </a:rPr>
                <a:t>AVALIAÇÃ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12"/>
            <p:cNvSpPr/>
            <p:nvPr/>
          </p:nvSpPr>
          <p:spPr>
            <a:xfrm>
              <a:off x="2227320" y="2247480"/>
              <a:ext cx="1635840" cy="94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300" spc="-1" strike="noStrike">
                  <a:solidFill>
                    <a:srgbClr val="e46c0a"/>
                  </a:solidFill>
                  <a:latin typeface="Arial"/>
                </a:rPr>
                <a:t>2.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e46c0a"/>
                  </a:solidFill>
                  <a:latin typeface="Arial"/>
                </a:rPr>
                <a:t>FORMULAÇÃO E TOMADA DE DECISÃ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089160" y="1258920"/>
            <a:ext cx="5659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rimora 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ráter democrático e descentralizado da administração públic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mpactando a concepção e a gestã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próprio Est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z inovação às politicas públicas: mai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pilaridade, porosidade territorial e incorporação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 mecanismos 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cnologias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sociai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z com que o processo d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mulação e execução das política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gu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s perto dos anseios e necessidades da popul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ector reto 13"/>
          <p:cNvSpPr/>
          <p:nvPr/>
        </p:nvSpPr>
        <p:spPr>
          <a:xfrm>
            <a:off x="-237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268200" y="2259000"/>
            <a:ext cx="2724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604a7b"/>
                </a:solidFill>
                <a:latin typeface="Calibri"/>
              </a:rPr>
              <a:t>Para o Estado, a relação das OSCs com as 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ixaDeTexto 6"/>
          <p:cNvSpPr/>
          <p:nvPr/>
        </p:nvSpPr>
        <p:spPr>
          <a:xfrm>
            <a:off x="108000" y="-27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79646"/>
                </a:solidFill>
                <a:latin typeface="Calibri"/>
              </a:rPr>
              <a:t>Relação das OSCs com as 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3338640" y="1557360"/>
            <a:ext cx="5227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talece as organizaçõ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onsolidando o campo democrático no paí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z com qu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utas da sociedade civil sejam incorporadas na agenda públic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ncluindo também grupos tradicionalmente marginalizados na polí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m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ganhos de escal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s estratégias d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frentamento aos problemas socia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 sua potencia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iversaliz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" y="2309760"/>
            <a:ext cx="271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604a7b"/>
                </a:solidFill>
                <a:latin typeface="Calibri"/>
              </a:rPr>
              <a:t>Para as OSCs, a relação com o Estado nas 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onector reto 13"/>
          <p:cNvSpPr/>
          <p:nvPr/>
        </p:nvSpPr>
        <p:spPr>
          <a:xfrm>
            <a:off x="-237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aixaDeTexto 6"/>
          <p:cNvSpPr/>
          <p:nvPr/>
        </p:nvSpPr>
        <p:spPr>
          <a:xfrm>
            <a:off x="108000" y="-27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79646"/>
                </a:solidFill>
                <a:latin typeface="Calibri"/>
              </a:rPr>
              <a:t>Relação das OSCs com as 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19:09:59Z</dcterms:created>
  <dc:creator>Tom Marques</dc:creator>
  <dc:description/>
  <dc:language>en-US</dc:language>
  <cp:lastModifiedBy>User</cp:lastModifiedBy>
  <cp:lastPrinted>2016-05-31T11:14:32Z</cp:lastPrinted>
  <dcterms:modified xsi:type="dcterms:W3CDTF">2017-08-24T17:13:31Z</dcterms:modified>
  <cp:revision>82</cp:revision>
  <dc:subject/>
  <dc:title>PowerPoint Presentation</dc:title>
</cp:coreProperties>
</file>